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3440" y="1163520"/>
            <a:ext cx="4191120" cy="314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81640"/>
            <a:ext cx="54864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1D06-A446-4F55-BA6C-F46DED980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4E43-CD3E-428D-A6F3-374CB18EB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33440" y="1163520"/>
            <a:ext cx="4191120" cy="3143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81640"/>
            <a:ext cx="548640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9F4-4D22-4A25-B884-6C2F0E1A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F0C-1F9D-40D2-99D2-3A5B9B7E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8F5-D5D4-42EC-9DAF-42EA0247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202-5E60-4A73-BF54-8605DF39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BF2-D923-4EC7-B505-ED3D5433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798-6C5F-437F-8048-DD2DC3C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C0A-4741-4BDC-BEB9-5267D80C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715-731D-4230-B307-E1811055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8C3-8844-4460-AE0E-2E359748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903-6E04-4CDE-B945-78940499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894-FB29-450C-BB01-35C59551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0DB-7A44-4ED1-91D5-20231BB9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6F8B-4356-4B44-8519-88EA302C4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لتاريخ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لتذييل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صر نائب لرقم الشريحة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E847-4139-4D61-8B00-83D624F97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l Mansour University Colle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omputer Technologies Engineering De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econ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Year 2018 - 20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 and Measurements Le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ook Antiqua"/>
                <a:ea typeface="Tahoma"/>
              </a:rPr>
              <a:t>Firas Al Assa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943560" y="5586480"/>
            <a:ext cx="58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3.45) </a:t>
            </a:r>
            <a:r>
              <a:rPr b="0" i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A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-3) (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=) </a:t>
            </a:r>
            <a:r>
              <a:rPr b="0" lang="en-US" sz="2400" spc="-1" strike="noStrike">
                <a:solidFill>
                  <a:srgbClr val="0000ff"/>
                </a:solidFill>
                <a:latin typeface="Cambria Math"/>
                <a:ea typeface="Cambria Math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Cambria Math"/>
              </a:rPr>
              <a:t>00346 </a:t>
            </a:r>
            <a:r>
              <a:rPr b="0" i="1" lang="en-US" sz="2400" spc="-1" strike="noStrike">
                <a:solidFill>
                  <a:srgbClr val="0000ff"/>
                </a:solidFill>
                <a:latin typeface="Cambria Math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1233360" y="3110040"/>
            <a:ext cx="657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3.45</a:t>
            </a:r>
            <a:r>
              <a:rPr b="0" i="1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 mA  x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0.001</a:t>
            </a:r>
            <a:r>
              <a:rPr b="0" i="1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=  </a:t>
            </a:r>
            <a:r>
              <a:rPr b="0" lang="en-US" sz="2400" spc="-1" strike="noStrike">
                <a:solidFill>
                  <a:srgbClr val="0000ff"/>
                </a:solidFill>
                <a:latin typeface="Cambria Math"/>
                <a:ea typeface="ヒラギノ角ゴ Pro W3"/>
              </a:rPr>
              <a:t>.00346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784440" y="169920"/>
            <a:ext cx="75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o convert a number "from" engineering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ply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the number by the conversion factor indic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2616480" y="1521000"/>
            <a:ext cx="38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Convert 3.46 mA to A</a:t>
            </a:r>
            <a:r>
              <a:rPr b="0" i="1" lang="en-US" sz="3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246400" y="3924360"/>
            <a:ext cx="455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3.45 </a:t>
            </a:r>
            <a:r>
              <a:rPr b="0" i="1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mA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=  </a:t>
            </a:r>
            <a:r>
              <a:rPr b="0" lang="en-US" sz="2400" spc="-1" strike="noStrike">
                <a:solidFill>
                  <a:srgbClr val="0000ff"/>
                </a:solidFill>
                <a:latin typeface="Cambria Math"/>
                <a:ea typeface="ヒラギノ角ゴ Pro W3"/>
              </a:rPr>
              <a:t>.00346 </a:t>
            </a:r>
            <a:r>
              <a:rPr b="0" i="1" lang="en-US" sz="2400" spc="-1" strike="noStrike">
                <a:solidFill>
                  <a:srgbClr val="0000ff"/>
                </a:solidFill>
                <a:latin typeface="Cambria Math"/>
                <a:ea typeface="ヒラギノ角ゴ Pro W3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3"/>
          <p:cNvSpPr/>
          <p:nvPr/>
        </p:nvSpPr>
        <p:spPr>
          <a:xfrm>
            <a:off x="2368440" y="495468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Use Calculator to Con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3498840" y="2104920"/>
            <a:ext cx="21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li = 0.001 or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46520" y="4253040"/>
            <a:ext cx="573120" cy="377640"/>
          </a:xfrm>
          <a:prstGeom prst="rect">
            <a:avLst/>
          </a:prstGeom>
          <a:ln w="0">
            <a:noFill/>
          </a:ln>
        </p:spPr>
      </p:pic>
      <p:sp>
        <p:nvSpPr>
          <p:cNvPr id="145" name="عنصر نائب للتاريخ 9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10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EEF-B3EE-48CD-AA81-60A721F4B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عنصر نائب للتذييل 1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B28E-9CC0-4BFE-805A-3AE1C8B53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0880" y="1066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Check Your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80880" y="1752480"/>
            <a:ext cx="868680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Complete the foll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0.750 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0.20 m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1,550 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k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330 kV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112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μ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F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12,550,000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_________________ M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 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0.000000456 F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_________________ n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222 k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_________________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0" y="0"/>
            <a:ext cx="9144000" cy="793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0" y="108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gineering N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لتاريخ 6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B1F2-53C6-49A3-8F04-9F961C05D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لتذييل 8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7F6D-2EC9-4BED-B9C4-4B0981A33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0880" y="1066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Check Your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80880" y="1752480"/>
            <a:ext cx="868680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Complete the foll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0.750 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0.20 m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1,550 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k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330 kV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112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μ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F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 ________________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12,550,000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_________________ M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 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0.000000456 F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_________________ n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-  222 k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= _________________ 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0" y="0"/>
            <a:ext cx="9144000" cy="793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6580440" y="22575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7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6225840" y="2700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0.0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0240" y="3143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1.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6083640" y="3584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33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5878800" y="40273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0.000,1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6368040" y="4468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12.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6580440" y="4911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6083640" y="5353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ヒラギノ角ゴ Pro W3"/>
              </a:rPr>
              <a:t>222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4410360" y="22575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5723"/>
                </a:solidFill>
                <a:latin typeface="Arial"/>
                <a:ea typeface="Arial"/>
              </a:rPr>
              <a:t>÷ .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4412520" y="31384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5723"/>
                </a:solidFill>
                <a:latin typeface="Arial"/>
                <a:ea typeface="Arial"/>
              </a:rPr>
              <a:t>÷ 1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414320" y="447192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5723"/>
                </a:solidFill>
                <a:latin typeface="Arial"/>
                <a:ea typeface="Arial"/>
              </a:rPr>
              <a:t>÷ 1,00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4373280" y="490068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5723"/>
                </a:solidFill>
                <a:latin typeface="Arial"/>
                <a:ea typeface="Arial"/>
              </a:rPr>
              <a:t>÷ .000,000,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4386600" y="26938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5723"/>
                </a:solidFill>
                <a:latin typeface="Arial"/>
                <a:ea typeface="Arial"/>
              </a:rPr>
              <a:t>x .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4386960" y="35751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5723"/>
                </a:solidFill>
                <a:latin typeface="Arial"/>
                <a:ea typeface="Arial"/>
              </a:rPr>
              <a:t>x 1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4388040" y="40194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5723"/>
                </a:solidFill>
                <a:latin typeface="Arial"/>
                <a:ea typeface="Arial"/>
              </a:rPr>
              <a:t>x .00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4386960" y="53532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5723"/>
                </a:solidFill>
                <a:latin typeface="Arial"/>
                <a:ea typeface="Arial"/>
              </a:rPr>
              <a:t>x 1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0" y="108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gineering N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عنصر نائب للتاريخ 25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2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A92A-3DA3-437A-B96D-317E7A62A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صر نائب للتذييل 2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29E3-09FA-4063-AD49-928E6A826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80880" y="1200240"/>
            <a:ext cx="868680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Quantity     Symbol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Definition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Unit of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Un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measure    Symb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Current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  I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  Measure of electron flow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Ampere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Voltage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 E or V     Force that causes electrons to flow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Volt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Resistance     R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  Opposition to flow of electrons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Ohm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Power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  P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  Heat dissipated in a circuit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Watt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apacitance   C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  Storage capacity of a capacitor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Farad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nductance    L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  Storage capacity of an inductor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Henrie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eactance      X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      Opposition to current by L or C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Ohm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Impedance     Z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  Opposition to AC circuit current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Ohm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Frequency      f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  Number of cycles per second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Hertz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Time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  t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        Time elapsed or between pulses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 Seconds      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0"/>
            <a:ext cx="9144000" cy="793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0" y="108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ectrical Units of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صر نائب للتاريخ 5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صر نائب لرقم الشريحة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857F-54B1-4F5F-B47A-CCD75B9E1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صر نائب للتذييل 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F326-FDAC-4CEC-8CD8-2CDB869BF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80880" y="1066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ヒラギノ角ゴ Pro W3"/>
              </a:rPr>
              <a:t>Engineering No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0" y="0"/>
            <a:ext cx="9144000" cy="793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0" y="1765440"/>
            <a:ext cx="892656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457200">
              <a:lnSpc>
                <a:spcPct val="100000"/>
              </a:lnSpc>
              <a:buClr>
                <a:srgbClr val="c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Engineering Notation is a shorthand method of representing large and small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45720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Examples: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,000 meters = 1 kilo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2,000 meters = 12 kilo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8,400,000 Hz = 28.4 MHz (megahert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0.00025 A = 25 millia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0.0000025 f = 2.5 microfar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0.095 s = 95 millisec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0" y="108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gineering N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صر نائب للتاريخ 6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صر نائب لرقم الشريحة 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FD36-61B8-459E-B01C-788EC65DF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صر نائب للتذييل 8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0" y="76320"/>
            <a:ext cx="9144000" cy="6365880"/>
            <a:chOff x="0" y="76320"/>
            <a:chExt cx="9144000" cy="6365880"/>
          </a:xfrm>
        </p:grpSpPr>
        <p:sp>
          <p:nvSpPr>
            <p:cNvPr id="69" name="TextBox 4"/>
            <p:cNvSpPr/>
            <p:nvPr/>
          </p:nvSpPr>
          <p:spPr>
            <a:xfrm flipH="1">
              <a:off x="2019600" y="76320"/>
              <a:ext cx="51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ENGINEERING NOTATION CHAR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Group 3"/>
            <p:cNvGrpSpPr/>
            <p:nvPr/>
          </p:nvGrpSpPr>
          <p:grpSpPr>
            <a:xfrm>
              <a:off x="0" y="613080"/>
              <a:ext cx="9144000" cy="5829120"/>
              <a:chOff x="0" y="613080"/>
              <a:chExt cx="9144000" cy="5829120"/>
            </a:xfrm>
          </p:grpSpPr>
          <p:sp>
            <p:nvSpPr>
              <p:cNvPr id="71" name="TextBox 11"/>
              <p:cNvSpPr/>
              <p:nvPr/>
            </p:nvSpPr>
            <p:spPr>
              <a:xfrm flipH="1">
                <a:off x="4869360" y="613080"/>
                <a:ext cx="23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ONVERSION FACTOR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eft Brace 5"/>
              <p:cNvSpPr/>
              <p:nvPr/>
            </p:nvSpPr>
            <p:spPr>
              <a:xfrm rot="5400000">
                <a:off x="5895000" y="-1839240"/>
                <a:ext cx="309240" cy="5991120"/>
              </a:xfrm>
              <a:custGeom>
                <a:avLst/>
                <a:gdLst>
                  <a:gd name="textAreaLeft" fmla="*/ 197640 w 309240"/>
                  <a:gd name="textAreaRight" fmla="*/ 309600 w 309240"/>
                  <a:gd name="textAreaTop" fmla="*/ 7920 h 5991120"/>
                  <a:gd name="textAreaBottom" fmla="*/ 5983200 h 599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47"/>
                      <a:pt x="10800" y="93"/>
                    </a:cubicBezTo>
                    <a:lnTo>
                      <a:pt x="10800" y="10707"/>
                    </a:lnTo>
                    <a:cubicBezTo>
                      <a:pt x="10800" y="10754"/>
                      <a:pt x="5400" y="10800"/>
                      <a:pt x="0" y="10800"/>
                    </a:cubicBezTo>
                    <a:cubicBezTo>
                      <a:pt x="5400" y="10800"/>
                      <a:pt x="10800" y="10847"/>
                      <a:pt x="10800" y="10893"/>
                    </a:cubicBezTo>
                    <a:lnTo>
                      <a:pt x="10800" y="21507"/>
                    </a:lnTo>
                    <a:cubicBezTo>
                      <a:pt x="10800" y="21554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3" name="Group 2"/>
              <p:cNvGrpSpPr/>
              <p:nvPr/>
            </p:nvGrpSpPr>
            <p:grpSpPr>
              <a:xfrm>
                <a:off x="0" y="1334160"/>
                <a:ext cx="9144000" cy="5108040"/>
                <a:chOff x="0" y="1334160"/>
                <a:chExt cx="9144000" cy="5108040"/>
              </a:xfrm>
            </p:grpSpPr>
            <p:pic>
              <p:nvPicPr>
                <p:cNvPr id="74" name="Picture 1" descr=""/>
                <p:cNvPicPr/>
                <p:nvPr/>
              </p:nvPicPr>
              <p:blipFill>
                <a:blip r:embed="rId1"/>
                <a:srcRect l="0" t="20951" r="0" b="10478"/>
                <a:stretch/>
              </p:blipFill>
              <p:spPr>
                <a:xfrm>
                  <a:off x="0" y="2021760"/>
                  <a:ext cx="9144000" cy="442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6" descr=""/>
                <p:cNvPicPr/>
                <p:nvPr/>
              </p:nvPicPr>
              <p:blipFill>
                <a:blip r:embed="rId2"/>
                <a:srcRect l="0" t="0" r="0" b="88817"/>
                <a:stretch/>
              </p:blipFill>
              <p:spPr>
                <a:xfrm>
                  <a:off x="0" y="1334160"/>
                  <a:ext cx="914400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6" name="عنصر نائب للتاريخ 9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10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A217-792E-4380-AF7F-2C176D422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لتذييل 1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383400" y="1699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o convert a number "to" engineering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vid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the number by the conversion factor for desired pr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32"/>
          <p:cNvGrpSpPr/>
          <p:nvPr/>
        </p:nvGrpSpPr>
        <p:grpSpPr>
          <a:xfrm>
            <a:off x="1071720" y="1525680"/>
            <a:ext cx="6999120" cy="4665600"/>
            <a:chOff x="1071720" y="1525680"/>
            <a:chExt cx="6999120" cy="466560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tretch/>
          </p:blipFill>
          <p:spPr>
            <a:xfrm>
              <a:off x="1071720" y="3805920"/>
              <a:ext cx="69991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7"/>
            <p:cNvSpPr/>
            <p:nvPr/>
          </p:nvSpPr>
          <p:spPr>
            <a:xfrm>
              <a:off x="2505600" y="1525680"/>
              <a:ext cx="413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alibri"/>
                </a:rPr>
                <a:t>Convert 5860 </a:t>
              </a:r>
              <a:r>
                <a:rPr b="0" i="1" lang="en-US" sz="3200" spc="-1" strike="noStrike">
                  <a:solidFill>
                    <a:srgbClr val="006600"/>
                  </a:solidFill>
                  <a:latin typeface="Calibri"/>
                </a:rPr>
                <a:t>Hz</a:t>
              </a:r>
              <a:r>
                <a:rPr b="0" lang="en-US" sz="3200" spc="-1" strike="noStrike">
                  <a:solidFill>
                    <a:srgbClr val="006600"/>
                  </a:solidFill>
                  <a:latin typeface="Calibri"/>
                </a:rPr>
                <a:t> to </a:t>
              </a:r>
              <a:r>
                <a:rPr b="0" i="1" lang="en-US" sz="3200" spc="-1" strike="noStrike">
                  <a:solidFill>
                    <a:srgbClr val="006600"/>
                  </a:solidFill>
                  <a:latin typeface="Calibri"/>
                </a:rPr>
                <a:t>kHz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2367720" y="4951080"/>
              <a:ext cx="440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alibri"/>
                </a:rPr>
                <a:t>Use Calculator to Conver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3" descr=""/>
            <p:cNvPicPr/>
            <p:nvPr/>
          </p:nvPicPr>
          <p:blipFill>
            <a:blip r:embed="rId2"/>
            <a:stretch/>
          </p:blipFill>
          <p:spPr>
            <a:xfrm>
              <a:off x="2919600" y="2881800"/>
              <a:ext cx="3303000" cy="7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6" descr=""/>
            <p:cNvPicPr/>
            <p:nvPr/>
          </p:nvPicPr>
          <p:blipFill>
            <a:blip r:embed="rId3"/>
            <a:stretch/>
          </p:blipFill>
          <p:spPr>
            <a:xfrm>
              <a:off x="1865160" y="5536080"/>
              <a:ext cx="5411880" cy="65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4"/>
            <p:cNvSpPr/>
            <p:nvPr/>
          </p:nvSpPr>
          <p:spPr>
            <a:xfrm>
              <a:off x="3546720" y="2105640"/>
              <a:ext cx="205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Kilo = 1,000 or 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عنصر نائب للتاريخ 9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صر نائب لرقم الشريحة 10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BC2B-4991-4205-BAEF-05A69B330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لتذييل 1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7"/>
          <p:cNvSpPr/>
          <p:nvPr/>
        </p:nvSpPr>
        <p:spPr>
          <a:xfrm>
            <a:off x="383400" y="1699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o convert a number "to" engineering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vid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the number by the conversion factor for desired pr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0" descr=""/>
          <p:cNvPicPr/>
          <p:nvPr/>
        </p:nvPicPr>
        <p:blipFill>
          <a:blip r:embed="rId1"/>
          <a:stretch/>
        </p:blipFill>
        <p:spPr>
          <a:xfrm>
            <a:off x="1687680" y="5535720"/>
            <a:ext cx="5768640" cy="644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1"/>
          <p:cNvSpPr/>
          <p:nvPr/>
        </p:nvSpPr>
        <p:spPr>
          <a:xfrm>
            <a:off x="1944360" y="1521000"/>
            <a:ext cx="53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Convert  84,450,000 </a:t>
            </a:r>
            <a:r>
              <a:rPr b="0" i="1" lang="en-US" sz="3200" spc="-1" strike="noStrike">
                <a:solidFill>
                  <a:srgbClr val="006600"/>
                </a:solidFill>
                <a:latin typeface="Calibri"/>
              </a:rPr>
              <a:t>W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 to </a:t>
            </a:r>
            <a:r>
              <a:rPr b="0" i="1" lang="en-US" sz="3200" spc="-1" strike="noStrike">
                <a:solidFill>
                  <a:srgbClr val="006600"/>
                </a:solidFill>
                <a:latin typeface="Calibri"/>
              </a:rPr>
              <a:t>M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2"/>
          <p:cNvSpPr/>
          <p:nvPr/>
        </p:nvSpPr>
        <p:spPr>
          <a:xfrm>
            <a:off x="2372400" y="495288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Use Calculator to Con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3481560" y="4230720"/>
            <a:ext cx="963360" cy="37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3016080" y="3824280"/>
            <a:ext cx="3135600" cy="625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7"/>
          <p:cNvSpPr/>
          <p:nvPr/>
        </p:nvSpPr>
        <p:spPr>
          <a:xfrm>
            <a:off x="3225960" y="210492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ga = 1,000,000 or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xtBox 28" descr=""/>
          <p:cNvPicPr/>
          <p:nvPr/>
        </p:nvPicPr>
        <p:blipFill>
          <a:blip r:embed="rId4"/>
          <a:stretch/>
        </p:blipFill>
        <p:spPr>
          <a:xfrm>
            <a:off x="2724120" y="2919240"/>
            <a:ext cx="3713040" cy="750960"/>
          </a:xfrm>
          <a:prstGeom prst="rect">
            <a:avLst/>
          </a:prstGeom>
          <a:ln w="0">
            <a:noFill/>
          </a:ln>
        </p:spPr>
      </p:pic>
      <p:sp>
        <p:nvSpPr>
          <p:cNvPr id="98" name="عنصر نائب للتاريخ 9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صر نائب لرقم الشريحة 10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50D1-9BB1-4EBF-9464-CED75EC43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صر نائب للتذييل 1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9"/>
          <p:cNvSpPr/>
          <p:nvPr/>
        </p:nvSpPr>
        <p:spPr>
          <a:xfrm>
            <a:off x="383400" y="1699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o convert a number "to" engineering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vid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the number by the conversion factor for desired pr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313720" y="152100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Convert  0.00346 </a:t>
            </a:r>
            <a:r>
              <a:rPr b="0" i="1" lang="en-US" sz="3200" spc="-1" strike="noStrike">
                <a:solidFill>
                  <a:srgbClr val="0066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 to </a:t>
            </a:r>
            <a:r>
              <a:rPr b="0" i="1" lang="en-US" sz="3200" spc="-1" strike="noStrike">
                <a:solidFill>
                  <a:srgbClr val="006600"/>
                </a:solidFill>
                <a:latin typeface="Calibri"/>
              </a:rPr>
              <a:t>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2368440" y="495288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Use Calculator to Con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349800" y="4253040"/>
            <a:ext cx="572760" cy="37764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20" descr=""/>
          <p:cNvPicPr/>
          <p:nvPr/>
        </p:nvPicPr>
        <p:blipFill>
          <a:blip r:embed="rId2"/>
          <a:stretch/>
        </p:blipFill>
        <p:spPr>
          <a:xfrm>
            <a:off x="3108240" y="2925720"/>
            <a:ext cx="2927520" cy="71928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21" descr=""/>
          <p:cNvPicPr/>
          <p:nvPr/>
        </p:nvPicPr>
        <p:blipFill>
          <a:blip r:embed="rId3"/>
          <a:stretch/>
        </p:blipFill>
        <p:spPr>
          <a:xfrm>
            <a:off x="3041640" y="3876840"/>
            <a:ext cx="3084480" cy="47592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22" descr=""/>
          <p:cNvPicPr/>
          <p:nvPr/>
        </p:nvPicPr>
        <p:blipFill>
          <a:blip r:embed="rId4"/>
          <a:stretch/>
        </p:blipFill>
        <p:spPr>
          <a:xfrm>
            <a:off x="1798560" y="5595840"/>
            <a:ext cx="5572080" cy="476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3"/>
          <p:cNvSpPr/>
          <p:nvPr/>
        </p:nvSpPr>
        <p:spPr>
          <a:xfrm>
            <a:off x="3498840" y="2104920"/>
            <a:ext cx="21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li = 0.001 or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صر نائب للتاريخ 9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10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237A-20F6-474E-B217-67C67431D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لتذييل 1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8"/>
          <p:cNvSpPr/>
          <p:nvPr/>
        </p:nvSpPr>
        <p:spPr>
          <a:xfrm>
            <a:off x="784440" y="169920"/>
            <a:ext cx="75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o convert a number "from" engineering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ply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the number by the conversion factor indic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1866960" y="1521000"/>
            <a:ext cx="5280120" cy="4657680"/>
            <a:chOff x="1866960" y="1521000"/>
            <a:chExt cx="5280120" cy="4657680"/>
          </a:xfrm>
        </p:grpSpPr>
        <p:pic>
          <p:nvPicPr>
            <p:cNvPr id="114" name="Picture 39" descr=""/>
            <p:cNvPicPr/>
            <p:nvPr/>
          </p:nvPicPr>
          <p:blipFill>
            <a:blip r:embed="rId1"/>
            <a:stretch/>
          </p:blipFill>
          <p:spPr>
            <a:xfrm>
              <a:off x="2616480" y="3007800"/>
              <a:ext cx="38109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40"/>
            <p:cNvSpPr/>
            <p:nvPr/>
          </p:nvSpPr>
          <p:spPr>
            <a:xfrm>
              <a:off x="2508120" y="1521000"/>
              <a:ext cx="402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alibri"/>
                </a:rPr>
                <a:t>Convert 5.86 </a:t>
              </a:r>
              <a:r>
                <a:rPr b="0" i="1" lang="en-US" sz="3200" spc="-1" strike="noStrike">
                  <a:solidFill>
                    <a:srgbClr val="006600"/>
                  </a:solidFill>
                  <a:latin typeface="Calibri"/>
                </a:rPr>
                <a:t>kHz</a:t>
              </a:r>
              <a:r>
                <a:rPr b="0" lang="en-US" sz="3200" spc="-1" strike="noStrike">
                  <a:solidFill>
                    <a:srgbClr val="006600"/>
                  </a:solidFill>
                  <a:latin typeface="Calibri"/>
                </a:rPr>
                <a:t> to </a:t>
              </a:r>
              <a:r>
                <a:rPr b="0" i="1" lang="en-US" sz="3200" spc="-1" strike="noStrike">
                  <a:solidFill>
                    <a:srgbClr val="006600"/>
                  </a:solidFill>
                  <a:latin typeface="Calibri"/>
                </a:rPr>
                <a:t>Hz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6" descr=""/>
            <p:cNvPicPr/>
            <p:nvPr/>
          </p:nvPicPr>
          <p:blipFill>
            <a:blip r:embed="rId2"/>
            <a:stretch/>
          </p:blipFill>
          <p:spPr>
            <a:xfrm>
              <a:off x="3290400" y="4251600"/>
              <a:ext cx="5727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"/>
            <p:cNvSpPr/>
            <p:nvPr/>
          </p:nvSpPr>
          <p:spPr>
            <a:xfrm>
              <a:off x="2246400" y="3923640"/>
              <a:ext cx="455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 Math"/>
                  <a:ea typeface="ヒラギノ角ゴ Pro W3"/>
                </a:rPr>
                <a:t>5.860</a:t>
              </a:r>
              <a:r>
                <a:rPr b="0" lang="en-US" sz="2400" spc="-1" strike="noStrike">
                  <a:solidFill>
                    <a:srgbClr val="006600"/>
                  </a:solidFill>
                  <a:latin typeface="Cambria Math"/>
                  <a:ea typeface="ヒラギノ角ゴ Pro W3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mbria Math"/>
                  <a:ea typeface="ヒラギノ角ゴ Pro W3"/>
                </a:rPr>
                <a:t>kHz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 Math"/>
                  <a:ea typeface="ヒラギノ角ゴ Pro W3"/>
                </a:rPr>
                <a:t>=  </a:t>
              </a:r>
              <a:r>
                <a:rPr b="0" lang="en-US" sz="2400" spc="-1" strike="noStrike">
                  <a:solidFill>
                    <a:srgbClr val="0000ff"/>
                  </a:solidFill>
                  <a:latin typeface="Cambria Math"/>
                  <a:ea typeface="ヒラギノ角ゴ Pro W3"/>
                </a:rPr>
                <a:t>5860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Cambria Math"/>
                  <a:ea typeface="ヒラギノ角ゴ Pro W3"/>
                </a:rPr>
                <a:t>H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43"/>
            <p:cNvSpPr/>
            <p:nvPr/>
          </p:nvSpPr>
          <p:spPr>
            <a:xfrm>
              <a:off x="2368440" y="4954320"/>
              <a:ext cx="440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alibri"/>
                </a:rPr>
                <a:t>Use Calculator to Conver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45"/>
            <p:cNvSpPr/>
            <p:nvPr/>
          </p:nvSpPr>
          <p:spPr>
            <a:xfrm>
              <a:off x="3547440" y="2105280"/>
              <a:ext cx="205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Kilo = 1,000 or 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" name="Group 4"/>
            <p:cNvGrpSpPr/>
            <p:nvPr/>
          </p:nvGrpSpPr>
          <p:grpSpPr>
            <a:xfrm>
              <a:off x="1866960" y="5531040"/>
              <a:ext cx="5280120" cy="647640"/>
              <a:chOff x="1866960" y="5531040"/>
              <a:chExt cx="5280120" cy="647640"/>
            </a:xfrm>
          </p:grpSpPr>
          <p:pic>
            <p:nvPicPr>
              <p:cNvPr id="121" name="Picture 8" descr=""/>
              <p:cNvPicPr/>
              <p:nvPr/>
            </p:nvPicPr>
            <p:blipFill>
              <a:blip r:embed="rId3"/>
              <a:srcRect l="0" t="0" r="13355" b="0"/>
              <a:stretch/>
            </p:blipFill>
            <p:spPr>
              <a:xfrm>
                <a:off x="1866960" y="5531040"/>
                <a:ext cx="46342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Box 1"/>
              <p:cNvSpPr/>
              <p:nvPr/>
            </p:nvSpPr>
            <p:spPr>
              <a:xfrm>
                <a:off x="6171840" y="5643360"/>
                <a:ext cx="97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ff"/>
                    </a:solidFill>
                    <a:latin typeface="Cambria Math"/>
                    <a:ea typeface="ヒラギノ角ゴ Pro W3"/>
                  </a:rPr>
                  <a:t>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3" name="عنصر نائب للتاريخ 12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صر نائب لرقم الشريحة 1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977E-2EC3-40F9-BFBE-CEDA74F81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عنصر نائب للتذييل 1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233000" y="5586480"/>
            <a:ext cx="66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84.5) </a:t>
            </a:r>
            <a:r>
              <a:rPr b="0" i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W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6) (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=) </a:t>
            </a:r>
            <a:r>
              <a:rPr b="0" lang="en-US" sz="2400" spc="-1" strike="noStrike">
                <a:solidFill>
                  <a:srgbClr val="0000ff"/>
                </a:solidFill>
                <a:latin typeface="Cambria Math"/>
                <a:ea typeface="Cambria Math"/>
              </a:rPr>
              <a:t>84,450,000 </a:t>
            </a:r>
            <a:r>
              <a:rPr b="0" i="1" lang="en-US" sz="2400" spc="-1" strike="noStrike">
                <a:solidFill>
                  <a:srgbClr val="0000ff"/>
                </a:solidFill>
                <a:latin typeface="Cambria Math"/>
                <a:ea typeface="Cambria Math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233360" y="3110040"/>
            <a:ext cx="657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84.5</a:t>
            </a:r>
            <a:r>
              <a:rPr b="0" i="1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 MW  x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1,000,000 =  </a:t>
            </a:r>
            <a:r>
              <a:rPr b="0" lang="en-US" sz="2400" spc="-1" strike="noStrike">
                <a:solidFill>
                  <a:srgbClr val="0000ff"/>
                </a:solidFill>
                <a:latin typeface="Cambria Math"/>
                <a:ea typeface="ヒラギノ角ゴ Pro W3"/>
              </a:rPr>
              <a:t>84,450,000 </a:t>
            </a:r>
            <a:r>
              <a:rPr b="0" i="1" lang="en-US" sz="2400" spc="-1" strike="noStrike">
                <a:solidFill>
                  <a:srgbClr val="0000ff"/>
                </a:solidFill>
                <a:latin typeface="Cambria Math"/>
                <a:ea typeface="ヒラギノ角ゴ Pro W3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784440" y="169920"/>
            <a:ext cx="75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o convert a number "from" engineering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ply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the number by the conversion factor indic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0"/>
          <p:cNvSpPr/>
          <p:nvPr/>
        </p:nvSpPr>
        <p:spPr>
          <a:xfrm>
            <a:off x="2373120" y="1521000"/>
            <a:ext cx="42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Convert 84.45 </a:t>
            </a:r>
            <a:r>
              <a:rPr b="0" i="1" lang="en-US" sz="3200" spc="-1" strike="noStrike">
                <a:solidFill>
                  <a:srgbClr val="006600"/>
                </a:solidFill>
                <a:latin typeface="Calibri"/>
              </a:rPr>
              <a:t>MW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 to </a:t>
            </a:r>
            <a:r>
              <a:rPr b="0" i="1" lang="en-US" sz="3200" spc="-1" strike="noStrike">
                <a:solidFill>
                  <a:srgbClr val="006600"/>
                </a:solidFill>
                <a:latin typeface="Calibri"/>
              </a:rPr>
              <a:t>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246400" y="3924360"/>
            <a:ext cx="455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84.5</a:t>
            </a:r>
            <a:r>
              <a:rPr b="0" i="1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 MW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ヒラギノ角ゴ Pro W3"/>
              </a:rPr>
              <a:t>=  </a:t>
            </a:r>
            <a:r>
              <a:rPr b="0" lang="en-US" sz="2400" spc="-1" strike="noStrike">
                <a:solidFill>
                  <a:srgbClr val="0000ff"/>
                </a:solidFill>
                <a:latin typeface="Cambria Math"/>
                <a:ea typeface="ヒラギノ角ゴ Pro W3"/>
              </a:rPr>
              <a:t>84,450,000 </a:t>
            </a:r>
            <a:r>
              <a:rPr b="0" i="1" lang="en-US" sz="2400" spc="-1" strike="noStrike">
                <a:solidFill>
                  <a:srgbClr val="0000ff"/>
                </a:solidFill>
                <a:latin typeface="Cambria Math"/>
                <a:ea typeface="ヒラギノ角ゴ Pro W3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3"/>
          <p:cNvSpPr/>
          <p:nvPr/>
        </p:nvSpPr>
        <p:spPr>
          <a:xfrm>
            <a:off x="2368440" y="495468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</a:rPr>
              <a:t>Use Calculator to Con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5"/>
          <p:cNvSpPr/>
          <p:nvPr/>
        </p:nvSpPr>
        <p:spPr>
          <a:xfrm>
            <a:off x="3225960" y="210492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ga = 1,000,000 or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137040" y="4230720"/>
            <a:ext cx="898560" cy="377640"/>
          </a:xfrm>
          <a:prstGeom prst="rect">
            <a:avLst/>
          </a:prstGeom>
          <a:ln w="0">
            <a:noFill/>
          </a:ln>
        </p:spPr>
      </p:pic>
      <p:sp>
        <p:nvSpPr>
          <p:cNvPr id="134" name="عنصر نائب للتاريخ 9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 October 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10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B635-32A5-4C3F-ACB9-B5778CB5A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عنصر نائب للتذييل 1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: Firas AL Assadi / AL Mansour Univers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22:09:53Z</dcterms:created>
  <dc:creator>JEFJ</dc:creator>
  <dc:description/>
  <dc:language>en-US</dc:language>
  <cp:lastModifiedBy>EnGiNeeRx</cp:lastModifiedBy>
  <cp:lastPrinted>2015-01-24T02:29:57Z</cp:lastPrinted>
  <dcterms:modified xsi:type="dcterms:W3CDTF">2018-10-04T15:22:00Z</dcterms:modified>
  <cp:revision>35</cp:revision>
  <dc:subject/>
  <dc:title>PowerPoint Presentation</dc:title>
</cp:coreProperties>
</file>