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06907F-554D-4CCB-97EF-D17D6DE8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to use this images has not been granted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to use this image has not been granted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to use this image has not been granted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403-F0A1-48E8-BD4C-638C6847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35F-ED30-474B-AD47-323C5E9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8AF-C5FF-40B8-A18E-F26DBA54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EBA-7C20-4D4C-942C-52BA4D6D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F12-CD8E-4471-9636-D75F7F6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A08-19E6-4AB2-B3FC-F706BDB6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F8E-EC1F-4C19-9BFD-5BE3B3B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E7F-DDF2-4321-9E4B-9D29A024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8DE-DBA7-4EC3-8A82-6FA8658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88F-8516-486E-9A51-6493BC1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300-E6C9-4043-944E-0B02CBC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13D-5913-472B-B4FF-D2155A1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244920"/>
            <a:ext cx="5639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697-ABC9-4683-A36F-FD5111F5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لتاريخ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لتذييل 4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388-CFF5-4BDD-BD84-7915F7CB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uter Technologies Engineering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لتذييل 6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876-7628-4A9B-A03F-AD4DCF9A1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cientific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29200" y="18288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ecision and accuracy are limited by the instrumentation and data gathering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520" y="1294920"/>
            <a:ext cx="44960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sts always want the mos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reci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ccura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al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cientist"/>
          <p:cNvPicPr/>
          <p:nvPr/>
        </p:nvPicPr>
        <p:blipFill>
          <a:blip r:embed="rId1"/>
          <a:stretch/>
        </p:blipFill>
        <p:spPr>
          <a:xfrm>
            <a:off x="762120" y="2590920"/>
            <a:ext cx="4114800" cy="36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6A9-4685-4E96-B963-E9471D22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Dealing with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errors and their magn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o reduce the magnitude of the error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OW?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experiment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 a lo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MMj02827470000[1]"/>
          <p:cNvPicPr/>
          <p:nvPr/>
        </p:nvPicPr>
        <p:blipFill>
          <a:blip r:embed="rId1"/>
          <a:stretch/>
        </p:blipFill>
        <p:spPr>
          <a:xfrm>
            <a:off x="6248520" y="3809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79B-2546-466B-A3D8-1FE77043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Bad new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atter how good you are… there will always be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estion is… How to deal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9480" y="52578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2120" y="4876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818-cartoon"/>
          <p:cNvPicPr/>
          <p:nvPr/>
        </p:nvPicPr>
        <p:blipFill>
          <a:blip r:embed="rId1"/>
          <a:stretch/>
        </p:blipFill>
        <p:spPr>
          <a:xfrm>
            <a:off x="4800600" y="2209680"/>
            <a:ext cx="3676680" cy="272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صر نائب للتذييل 4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782-7DC8-4C0C-92AA-B95FD665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Comic Sans MS"/>
              </a:rPr>
              <a:t>Science, Measurements, Uncertainty and Err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514600" y="2362320"/>
          <a:ext cx="380988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7"/>
          <p:cNvSpPr/>
          <p:nvPr/>
        </p:nvSpPr>
        <p:spPr>
          <a:xfrm>
            <a:off x="3032280" y="57736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صر نائب للتذييل 4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6D6-FBCA-44F9-BCDD-5E5BEBC06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Measurement and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experiments require scientists to mak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ment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s ar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r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xactly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ments ar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mewhat different from the “true valu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deviations from the true value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0BD-34FD-4617-9BD5-05E36E8C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ources of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ources of error in a measurement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tions in the sensitivity of the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erfections in experimental design or measur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s are often classifi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019920" y="4114800"/>
          <a:ext cx="282888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114800"/>
                    <a:ext cx="2828880" cy="209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Rectangle 13"/>
          <p:cNvSpPr/>
          <p:nvPr/>
        </p:nvSpPr>
        <p:spPr>
          <a:xfrm>
            <a:off x="7011360" y="6172200"/>
            <a:ext cx="103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nabis.govt.n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D4B-6FB3-4ED0-80DB-4E7BC0F9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Random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s are often show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easurement ± Random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953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or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s in experiment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to minimiz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repeated measurements and calculate their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easerr2"/>
          <p:cNvPicPr/>
          <p:nvPr/>
        </p:nvPicPr>
        <p:blipFill>
          <a:blip r:embed="rId1"/>
          <a:stretch/>
        </p:blipFill>
        <p:spPr>
          <a:xfrm>
            <a:off x="762120" y="304812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EE62-1733-4E1A-BC24-E6CA2269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ystematic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mental, physical and human lim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Device is out-of cali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to minimiz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eful cali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possible tech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YPIC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s are giv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easurement + Systematic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easurement - Systematic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measerr3"/>
          <p:cNvPicPr/>
          <p:nvPr/>
        </p:nvPicPr>
        <p:blipFill>
          <a:blip r:embed="rId1"/>
          <a:stretch/>
        </p:blipFill>
        <p:spPr>
          <a:xfrm>
            <a:off x="838080" y="2971800"/>
            <a:ext cx="3105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95DA-7C17-47F6-9338-F8A86E644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recision and Accuracy in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reproducible are measu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5680" y="18288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lose are the measurements to the tru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Accuracy"/>
          <p:cNvPicPr/>
          <p:nvPr/>
        </p:nvPicPr>
        <p:blipFill>
          <a:blip r:embed="rId1"/>
          <a:stretch/>
        </p:blipFill>
        <p:spPr>
          <a:xfrm>
            <a:off x="5715000" y="3657600"/>
            <a:ext cx="228600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9" descr="glasscaliper2"/>
          <p:cNvPicPr/>
          <p:nvPr/>
        </p:nvPicPr>
        <p:blipFill>
          <a:blip r:embed="rId2"/>
          <a:stretch/>
        </p:blipFill>
        <p:spPr>
          <a:xfrm>
            <a:off x="914400" y="3657600"/>
            <a:ext cx="3048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صر نائب للتذييل 6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رقم الشريحة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FFB-F5C0-4BDF-B5C6-2C8259D0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Dartboard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agine a person throwing darts, trying to hit the bulls-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705720" y="32004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0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45400" cy="17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 Box 22"/>
          <p:cNvSpPr/>
          <p:nvPr/>
        </p:nvSpPr>
        <p:spPr>
          <a:xfrm>
            <a:off x="914400" y="50292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856440" y="4876920"/>
            <a:ext cx="1712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895480" y="4876920"/>
            <a:ext cx="1676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800600" y="4876920"/>
            <a:ext cx="1905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6934320" y="4876920"/>
            <a:ext cx="1295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MCBD07748_0000[1]"/>
          <p:cNvPicPr/>
          <p:nvPr/>
        </p:nvPicPr>
        <p:blipFill>
          <a:blip r:embed="rId2"/>
          <a:stretch/>
        </p:blipFill>
        <p:spPr>
          <a:xfrm>
            <a:off x="6705720" y="152280"/>
            <a:ext cx="1236600" cy="1447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لتذييل 5"/>
          <p:cNvSpPr/>
          <p:nvPr/>
        </p:nvSpPr>
        <p:spPr>
          <a:xfrm>
            <a:off x="1295280" y="624528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Measurement, Uncertainty and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3751-7E96-4C09-9222-ECB5B4AD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recision of a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457200" y="3124080"/>
          <a:ext cx="35812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>
                    <a:alphaModFix amt="94000"/>
                  </a:blip>
                  <a:stretch/>
                </p:blipFill>
                <p:spPr>
                  <a:xfrm>
                    <a:off x="457200" y="3124080"/>
                    <a:ext cx="3581280" cy="2138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st digit is a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stimate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ecision is limited by the instr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743200" y="2819520"/>
            <a:ext cx="152280" cy="976320"/>
          </a:xfrm>
          <a:prstGeom prst="downArrow">
            <a:avLst>
              <a:gd name="adj1" fmla="val 50000"/>
              <a:gd name="adj2" fmla="val 1602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0880" y="1828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≈ 26.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9:48:57Z</dcterms:created>
  <dc:creator>esantos</dc:creator>
  <dc:description/>
  <dc:language>en-US</dc:language>
  <cp:lastModifiedBy>EnGiNeeRx</cp:lastModifiedBy>
  <dcterms:modified xsi:type="dcterms:W3CDTF">2018-10-04T15:41:12Z</dcterms:modified>
  <cp:revision>38</cp:revision>
  <dc:subject/>
  <dc:title>Measurements, uncertainty, and error</dc:title>
</cp:coreProperties>
</file>