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alog and Digital Sign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43"/>
          </p:nvPr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2 Introduction to Ana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ftr" idx="44"/>
          </p:nvPr>
        </p:nvSpPr>
        <p:spPr>
          <a:xfrm>
            <a:off x="-36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 type="sldNum" idx="45"/>
          </p:nvPr>
        </p:nvSpPr>
        <p:spPr>
          <a:xfrm>
            <a:off x="388440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64FB-EB50-4E2F-8300-31CCC41A0D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Picture 8" descr=""/>
          <p:cNvPicPr/>
          <p:nvPr/>
        </p:nvPicPr>
        <p:blipFill>
          <a:blip r:embed="rId2"/>
          <a:stretch/>
        </p:blipFill>
        <p:spPr>
          <a:xfrm>
            <a:off x="6095880" y="8642520"/>
            <a:ext cx="474840" cy="48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and Digital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Date Placeholder 4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2 Introduction to 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ooter Placeholder 5"/>
          <p:cNvSpPr/>
          <p:nvPr/>
        </p:nvSpPr>
        <p:spPr>
          <a:xfrm>
            <a:off x="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lide Number Placeholder 6"/>
          <p:cNvSpPr/>
          <p:nvPr/>
        </p:nvSpPr>
        <p:spPr>
          <a:xfrm>
            <a:off x="388476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7B14-861F-4680-AB6C-D1B87D562D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with the student Multisim Oscillo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and Digital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Date Placeholder 4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2 Introduction to 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ooter Placeholder 5"/>
          <p:cNvSpPr/>
          <p:nvPr/>
        </p:nvSpPr>
        <p:spPr>
          <a:xfrm>
            <a:off x="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lide Number Placeholder 6"/>
          <p:cNvSpPr/>
          <p:nvPr/>
        </p:nvSpPr>
        <p:spPr>
          <a:xfrm>
            <a:off x="388476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F8B7-7263-4C5F-9779-76AAFDD9CC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resentation and allow the student to work on the example. The solution is on the next two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and Digital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2 Introduction to 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ooter Placeholder 5"/>
          <p:cNvSpPr/>
          <p:nvPr/>
        </p:nvSpPr>
        <p:spPr>
          <a:xfrm>
            <a:off x="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lide Number Placeholder 6"/>
          <p:cNvSpPr/>
          <p:nvPr/>
        </p:nvSpPr>
        <p:spPr>
          <a:xfrm>
            <a:off x="388476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997C-5B3D-43D2-9659-BE26FCE243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 not print this page. (1 of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and Digital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2 Introduction to 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ooter Placeholder 5"/>
          <p:cNvSpPr/>
          <p:nvPr/>
        </p:nvSpPr>
        <p:spPr>
          <a:xfrm>
            <a:off x="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lide Number Placeholder 6"/>
          <p:cNvSpPr/>
          <p:nvPr/>
        </p:nvSpPr>
        <p:spPr>
          <a:xfrm>
            <a:off x="388476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EE43-A4F7-45AD-B780-ACDE39F08D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 (2 of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and Digital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Date Placeholder 4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2 Introduction to 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ooter Placeholder 5"/>
          <p:cNvSpPr/>
          <p:nvPr/>
        </p:nvSpPr>
        <p:spPr>
          <a:xfrm>
            <a:off x="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lide Number Placeholder 6"/>
          <p:cNvSpPr/>
          <p:nvPr/>
        </p:nvSpPr>
        <p:spPr>
          <a:xfrm>
            <a:off x="388476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9AD4-0CF3-488D-B532-1DAB54D2C5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and Digital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Date Placeholder 4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2 Introduction to 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ooter Placeholder 5"/>
          <p:cNvSpPr/>
          <p:nvPr/>
        </p:nvSpPr>
        <p:spPr>
          <a:xfrm>
            <a:off x="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6"/>
          <p:cNvSpPr/>
          <p:nvPr/>
        </p:nvSpPr>
        <p:spPr>
          <a:xfrm>
            <a:off x="388476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17A3-2D63-4E3D-A0EC-9324FEB76A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and Digital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Date Placeholder 4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2 Introduction to 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ooter Placeholder 5"/>
          <p:cNvSpPr/>
          <p:nvPr/>
        </p:nvSpPr>
        <p:spPr>
          <a:xfrm>
            <a:off x="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lide Number Placeholder 6"/>
          <p:cNvSpPr/>
          <p:nvPr/>
        </p:nvSpPr>
        <p:spPr>
          <a:xfrm>
            <a:off x="388476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940B-0D20-4AA5-9B78-BA41CF11EB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and Digital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Date Placeholder 4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2 Introduction to 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ooter Placeholder 5"/>
          <p:cNvSpPr/>
          <p:nvPr/>
        </p:nvSpPr>
        <p:spPr>
          <a:xfrm>
            <a:off x="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6"/>
          <p:cNvSpPr/>
          <p:nvPr/>
        </p:nvSpPr>
        <p:spPr>
          <a:xfrm>
            <a:off x="388476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E1A4-9B51-48DB-9DD0-1CA08045E9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defines analog and digital signals and gives several examples of e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and Digital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Date Placeholder 4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2 Introduction to 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ooter Placeholder 5"/>
          <p:cNvSpPr/>
          <p:nvPr/>
        </p:nvSpPr>
        <p:spPr>
          <a:xfrm>
            <a:off x="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lide Number Placeholder 6"/>
          <p:cNvSpPr/>
          <p:nvPr/>
        </p:nvSpPr>
        <p:spPr>
          <a:xfrm>
            <a:off x="388476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284D-BC48-4E21-86D1-EE4B943A15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common analog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and Digital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Date Placeholder 4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2 Introduction to 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ooter Placeholder 5"/>
          <p:cNvSpPr/>
          <p:nvPr/>
        </p:nvSpPr>
        <p:spPr>
          <a:xfrm>
            <a:off x="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6"/>
          <p:cNvSpPr/>
          <p:nvPr/>
        </p:nvSpPr>
        <p:spPr>
          <a:xfrm>
            <a:off x="388476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8340-F3A2-41DE-ABFB-0D8210341C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n analog signal: amplitude, period, &amp; freq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and Digital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Date Placeholder 4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2 Introduction to 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ooter Placeholder 5"/>
          <p:cNvSpPr/>
          <p:nvPr/>
        </p:nvSpPr>
        <p:spPr>
          <a:xfrm>
            <a:off x="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6"/>
          <p:cNvSpPr/>
          <p:nvPr/>
        </p:nvSpPr>
        <p:spPr>
          <a:xfrm>
            <a:off x="388476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0CCD-594A-4E2F-8A19-287F55E356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ntroduces the concept of logic levels, gives the range of acceptable voltages for a logic high &amp; low, and lists other common terms used to describe logic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and Digital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Date Placeholder 4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2 Introduction to 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ooter Placeholder 5"/>
          <p:cNvSpPr/>
          <p:nvPr/>
        </p:nvSpPr>
        <p:spPr>
          <a:xfrm>
            <a:off x="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6"/>
          <p:cNvSpPr/>
          <p:nvPr/>
        </p:nvSpPr>
        <p:spPr>
          <a:xfrm>
            <a:off x="388476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5171-41DB-4FBE-8F47-303BBE1BC7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common digital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and Digital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Date Placeholder 4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2 Introduction to 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ooter Placeholder 5"/>
          <p:cNvSpPr/>
          <p:nvPr/>
        </p:nvSpPr>
        <p:spPr>
          <a:xfrm>
            <a:off x="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lide Number Placeholder 6"/>
          <p:cNvSpPr/>
          <p:nvPr/>
        </p:nvSpPr>
        <p:spPr>
          <a:xfrm>
            <a:off x="388476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30A5-4CE4-4A57-A715-579ADF1E34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s of a digital signal: amplitude, period &amp; frequency, time high, time low, duty cycle, rising &amp; falling ed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and Digital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Date Placeholder 4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2 Introduction to 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ooter Placeholder 5"/>
          <p:cNvSpPr/>
          <p:nvPr/>
        </p:nvSpPr>
        <p:spPr>
          <a:xfrm>
            <a:off x="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6"/>
          <p:cNvSpPr/>
          <p:nvPr/>
        </p:nvSpPr>
        <p:spPr>
          <a:xfrm>
            <a:off x="3884760" y="86709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AB5B-8E81-4FE2-8ED4-780BA21D5A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562-8E2A-49F8-9AA2-5B705E35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74D-61EE-4BAA-96C8-0255046E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2B42B-711E-45E9-BAB3-8C1650F3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E9472-16C5-43A2-B0EF-C75367CE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34995-BFB1-4BE2-9DEC-6213B054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F046B-B060-4BBB-868F-7204037D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CCAEF-9796-45AA-A88B-64111673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8E9D6-65D0-495E-B107-A5D14FDE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3DE5F-ABF2-4EF5-B1FD-EFEE9FC0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E3488-6181-40B2-94E1-19635CBD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956D8-9D8D-455D-AFB3-36882F04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7AAB2-4749-47A6-B798-F7DCDC4E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3E8-7B15-4759-9C96-7F820F6D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6F1CA-0C92-49B4-A135-68FE57FF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CDE61-266B-49A1-9EF2-5D0F15A2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6CC31-5182-4483-94C3-AAFC0DA1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9B520-D019-4E48-89E7-E987EC51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B8069-F0E4-4FC8-B32A-A06A5478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E5B69-B5DA-4EF6-9465-5C5EE2E9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150D3-6F97-4E8B-BDA7-6F2542B5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8A239-C45F-4485-AA59-F2E3251B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25982-84A4-4381-8A29-983110F5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A1AD0-DDE2-4DF0-9A1D-C7A4EA82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952-E203-4990-AD6C-2857F8A7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84525-3319-462F-8F11-D5CF8A89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C39D0-77FC-49D4-B8FC-126CCC53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60DD4-8B12-4E6A-BF7D-EB67FEFF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8DF46-470D-4FC8-93FD-536739AD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40093-2AE6-487A-A7D6-615A02F9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3193C-C295-4AD9-BF44-F9993ED1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E4EF0-62AC-465C-B8F3-769EE93F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37BD5-1736-43FA-B709-116D1AEE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1BF9E-08B4-4878-B99C-2957CD36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E257C-4949-4879-8556-9C4FEC4D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EE43-736B-46E2-946D-F4F61024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781BF-38E0-42F1-A377-570A4D62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8FD69-2D94-4882-93B4-CEB216D2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07A07-A236-4AC1-B682-8EABE3F3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2AF16-D17B-4000-B645-55A5DBC9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CCA24-4E0F-4AB8-A0B6-4D4B86DC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7DE4C-A660-4EBE-9619-2028A088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5DC4B-C899-44A1-B4F1-CF089A67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3E89C-778A-46EB-A035-762548FB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57196-5A48-45A8-BB29-429079E7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25FF2-9A60-4881-91F1-CDA821F0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29ED-4410-4C3B-8A83-EFFE7772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7A54E-FE38-48B0-A4F5-7EC56594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3D343-9B13-429D-8AE1-2BDDEA69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7728C-C9DA-49F4-BE81-834D0A47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98CEE-0049-4F95-98FC-744DAF09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5D22D-F2F2-4C6E-BC0E-40D09FE2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7A9D4-AD5F-4EF4-9D59-9A57CDF1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8D55A-AD74-4049-AE9A-A78CD90F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01427-F213-47CD-A9F9-65A2BB0A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42D63-86E0-4FCD-A3C2-91451BBB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DA7A2-6608-4A20-B2C7-312987EE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7F2B-4D53-4741-BC84-509FC815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1AE0AB-734D-45C1-A39B-A2AEC7C5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AAA825-F545-4AB6-904E-A95D11E8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0793F5-8B9E-4450-8520-1DF6C000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D83F6-E207-46E3-AAD7-C5C4E554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FD2A9-99AB-4A1B-B6F2-1CCF4228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A1801-30D1-4AA5-8390-3F664264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A632C-2C15-4355-AD3E-F89FFB88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32B3F6-0F81-4EC4-B9E2-FE15E974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C4128-9F98-402C-AB4A-3D6ECD02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A07D3E-2AA3-46B1-AFBB-83EE7DED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C1A6-AD49-4056-B05B-CC9D5042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694493-435A-404F-83B1-17C4437A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FB298-83BF-41F9-BBAB-A4378FD8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46F792-D27C-431C-A650-06A831D1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3C89CF-1A96-4449-868B-AF8410CE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639DA-C035-44DD-B863-0A406E76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4F8730-98F1-4B34-A85B-83452BAF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009AE-7434-4896-8ABA-EE38067E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82809-EDBC-451B-A475-0CC38051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F32B1B-27DC-4680-B3A6-DD0288BA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277C-E873-4BE0-90D9-58729797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91A1-1A66-451A-A5F8-407AFC42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6284-87E5-416E-BADE-6385B538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423D-8F8E-42B1-AA8D-2A967E22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1AFF-4D89-4ECD-B8B7-5E4C4614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3457-D989-4F2C-BAFA-BA62406E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4C30-060C-4E8F-922F-A7926DA8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6740-2DF2-4751-A293-B15FC06A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B048-64AA-4C6B-9AA2-6BEE8F1B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F3532-B252-47DC-A479-E85FB9E3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054EC-D58B-41EA-BF55-A0349EFE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33BB2-57A5-4922-884A-752EA93C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FBE16-D4B6-441E-B3DA-0CDC5D67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F2CD7-C14F-4045-9AD3-8694D4FC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2EE-2441-40F8-B0E0-06759C0E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3954A-D965-4737-9310-361CD488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4C511-374B-4FDA-985B-3A57CDB6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1CA0F-C57A-47FE-974C-BF8A88EF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98A64-2205-422C-BADD-3A9934B5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C8109-0709-4411-869B-8DEA0FC5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D170A-64BE-4BAE-BD49-CFE7A5FB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67EF8-B48E-43B5-B8B1-9436EBBC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DFFBF-ACEA-429B-B4F4-529C96F0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A3F8B-FBDA-4946-9D2F-21F9330D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42CFE-C5B7-4014-B758-1A4CD781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4434-9A1D-45E6-B7CB-A0BEF8C3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7A8A7-117D-4C00-ABB7-17C1A9F2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50F9D-A310-4D07-9AD7-C1690017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C1A99-C014-49E2-A1D2-93B337A5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0CE9B-5BCB-41A3-914E-70512B51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88323-BC98-4738-A819-7097CCD2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48A62-161F-4E17-B17D-515A37BA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2B389-BF72-4F48-8ED0-18D20A14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820E2-6BD4-435A-8AF7-5075E506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E218F-B6F8-4B93-BAF2-8EC15130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FEFE8-6098-4320-A5A5-C1C1F7D5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236-7F1B-462E-BF66-BC455252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9E0B6-C8C2-49A4-BD0B-17758BC6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EE55E-C5E2-4F5E-B3AD-3A94DE70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0528B-BC71-4795-9813-19B2E8F1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1399F-6944-453C-A80B-219F8E7C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59FEB-9A9B-467E-B174-A4EF93ED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61D85-83E4-4190-B5F3-F0443735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CB05B-3E16-43C3-86C5-8BEDDE9F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93A92-D90C-4541-87A9-7B6B35BF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572AC-7213-4B0B-9C44-D473F6B7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EA0C4-38E0-43AB-908E-C7AD7E5C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AFB-8B81-4B30-9412-9FB0D3DC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0AA5B-C098-4486-BC81-58B3B64C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3C057-7F8B-4C38-9CD6-F197A4E6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DF75D-4CEE-4C89-B9A2-BE06E7FA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E39AB-C51B-4F2A-A570-936FB92D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6649A-E3D9-4D4E-A3E1-2341DF7D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EA7B3-8C65-48A7-8D56-E2D0A229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4F9ED-BD96-4449-BB92-096032F4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E0309-3837-4899-AE41-A3874EBD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CE407-2765-4F35-BD4A-3166714E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FDCD2-A1D3-4B94-BE07-834DE140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104-3127-473D-B2E6-BB8632A3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F1010-4E0F-4504-BB77-066E70D3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6948D-2A74-485D-91BD-7AA3461F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70D33-03C5-4F41-A4AA-03BB3F71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FA13C-B314-40FE-8035-19C08449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0B487-78DE-43F6-B552-6919C558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8FC5D-121D-4041-8A7B-07AAD544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14601-8A03-4AC1-B976-45144ED3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BD267-98A6-4857-A8B7-0DC30B3E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52D94-10A5-4C5B-B9A9-EE0D3544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59C34-D307-4190-AA16-208E020A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927-D2FB-41A6-A541-E1308556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8F5C4-D62C-49F0-A25F-CCD6EA2B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1CC5A-7A87-437B-8DE2-ACCE0706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7C9C1-A9AD-40C8-9698-362A005F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C6DBF-FBCE-4757-B21C-0DF28B64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984DE-9161-43D0-B1C8-6A2B3E78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54BAA-4741-45DE-A69A-FE45C94D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31999-A75D-4FBC-B52C-0B70D778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5E7DA-4570-4603-8B1C-9D3CE2EF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C176F-1B5D-4787-8FE0-A7D59A15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00BC7-69F5-48C5-A706-A4EA0B0C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64B-A1EA-4D39-B28B-9A51216D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61AA3-6278-466A-A1D0-D00916A4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CA6B4-6986-475F-A722-A938EF77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60CCB-3A7A-430F-BAF2-6475709B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B9286-2E25-470D-A828-4855CEC3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F5303-FC60-4601-B372-6B278188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0E9BB-D552-43E4-B6C7-3C46089B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7BE9C-15F7-4C63-9E98-51DF74B2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CB307-5EC2-42B9-8270-D2D34D92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7EA8E-2FCF-4316-BF7B-831F00F5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0627C-F630-4FE5-B47B-8807658D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8F72-DE39-489D-BAB1-CF3A963AC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B26D-A2C3-42A9-A1C0-BE07B9AE2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46A2-46A1-47A2-BE52-076A1EF8D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7810-FF26-497D-86A0-11BA4D16C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C38B-FDFB-4CC5-8D5D-7D669FF2B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8ABB-1B03-4E6F-82DA-A734BFF93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CF93-8BB1-4FD6-B4D8-19C135153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3x3_PLTW_Logo_R"/>
          <p:cNvPicPr/>
          <p:nvPr/>
        </p:nvPicPr>
        <p:blipFill>
          <a:blip r:embed="rId3"/>
          <a:stretch/>
        </p:blipFill>
        <p:spPr>
          <a:xfrm>
            <a:off x="3048120" y="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 flipH="1">
            <a:off x="2514600" y="48769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F345-04F6-4338-A1E4-D40FA0EC7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0142-09A9-4CB0-9D8F-6D3E17271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1897-B007-4E04-BC21-ED6EF46AF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2982-74EC-477A-845B-781E57413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C425-E092-482F-A9FC-0E8566A32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44EE-18EF-4606-8A5D-2FCCBE59B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3x3_PLTW_Logo_R"/>
          <p:cNvPicPr/>
          <p:nvPr/>
        </p:nvPicPr>
        <p:blipFill>
          <a:blip r:embed="rId3"/>
          <a:stretch/>
        </p:blipFill>
        <p:spPr>
          <a:xfrm>
            <a:off x="3048120" y="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8"/>
          <p:cNvSpPr/>
          <p:nvPr/>
        </p:nvSpPr>
        <p:spPr>
          <a:xfrm flipH="1">
            <a:off x="2514600" y="48769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2F5A-28B8-4C42-A344-125D16710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عنصر نائب للتاريخ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عنصر نائب للتذييل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99A4-A22F-4513-86F0-6D84466D2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 Mansour University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mputer Technologies Engineering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ear 2018 - 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ruments and Measurements Lec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ook Antiqua"/>
                <a:ea typeface="Tahoma"/>
              </a:rPr>
              <a:t>Firas Al Assa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cillo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scilloscope is a piece of electronic test equipment that is used to capture and measure time-varying signals, both analog and dig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cilloscopes can be found on the workbench (physical) as well as part of a simulation tool (virtu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limit our usage to the virtual oscillosc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1EFD-3A76-44A4-A47F-A9C182E5D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عنصر نائب للتاريخ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عنصر نائب للتذييل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Oscilloscope: Multis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DAEE-464D-48A2-83C6-B086C9583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2" descr=""/>
          <p:cNvPicPr/>
          <p:nvPr/>
        </p:nvPicPr>
        <p:blipFill>
          <a:blip r:embed="rId1"/>
          <a:stretch/>
        </p:blipFill>
        <p:spPr>
          <a:xfrm>
            <a:off x="901800" y="1687680"/>
            <a:ext cx="4660920" cy="35701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3" descr=""/>
          <p:cNvPicPr/>
          <p:nvPr/>
        </p:nvPicPr>
        <p:blipFill>
          <a:blip r:embed="rId2"/>
          <a:stretch/>
        </p:blipFill>
        <p:spPr>
          <a:xfrm>
            <a:off x="7118280" y="1933560"/>
            <a:ext cx="1276560" cy="1038240"/>
          </a:xfrm>
          <a:prstGeom prst="rect">
            <a:avLst/>
          </a:prstGeom>
          <a:ln w="0">
            <a:noFill/>
          </a:ln>
        </p:spPr>
      </p:pic>
      <p:sp>
        <p:nvSpPr>
          <p:cNvPr id="729" name="TextBox 6"/>
          <p:cNvSpPr/>
          <p:nvPr/>
        </p:nvSpPr>
        <p:spPr>
          <a:xfrm>
            <a:off x="6987240" y="129528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cillosco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7"/>
          <p:cNvSpPr/>
          <p:nvPr/>
        </p:nvSpPr>
        <p:spPr>
          <a:xfrm>
            <a:off x="1509840" y="12952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cilloscope Instr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ounded Rectangle 8"/>
          <p:cNvSpPr/>
          <p:nvPr/>
        </p:nvSpPr>
        <p:spPr>
          <a:xfrm>
            <a:off x="982800" y="4451400"/>
            <a:ext cx="109692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ounded Rectangle 9"/>
          <p:cNvSpPr/>
          <p:nvPr/>
        </p:nvSpPr>
        <p:spPr>
          <a:xfrm>
            <a:off x="2147760" y="4451400"/>
            <a:ext cx="118764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ounded Rectangle 10"/>
          <p:cNvSpPr/>
          <p:nvPr/>
        </p:nvSpPr>
        <p:spPr>
          <a:xfrm>
            <a:off x="3352680" y="4481640"/>
            <a:ext cx="533520" cy="533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11"/>
          <p:cNvSpPr/>
          <p:nvPr/>
        </p:nvSpPr>
        <p:spPr>
          <a:xfrm>
            <a:off x="0" y="55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ba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justs the time scale and offset of the signals. This is common for all chann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12"/>
          <p:cNvSpPr/>
          <p:nvPr/>
        </p:nvSpPr>
        <p:spPr>
          <a:xfrm>
            <a:off x="3124080" y="553392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nel_X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justs the horizontal scale and offset of the selected cha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5943600" y="55339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nel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ounded Rectangle 14"/>
          <p:cNvSpPr/>
          <p:nvPr/>
        </p:nvSpPr>
        <p:spPr>
          <a:xfrm>
            <a:off x="968400" y="3989520"/>
            <a:ext cx="237816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15"/>
          <p:cNvSpPr/>
          <p:nvPr/>
        </p:nvSpPr>
        <p:spPr>
          <a:xfrm>
            <a:off x="5943600" y="4027320"/>
            <a:ext cx="289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r Displ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splays the voltage &amp; time intersect for the markers T1 &amp; T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16"/>
          <p:cNvSpPr/>
          <p:nvPr/>
        </p:nvSpPr>
        <p:spPr>
          <a:xfrm>
            <a:off x="5943600" y="305604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vable markers T1 &amp; 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17"/>
          <p:cNvSpPr/>
          <p:nvPr/>
        </p:nvSpPr>
        <p:spPr>
          <a:xfrm>
            <a:off x="685800" y="3395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ed Sig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1" name="Straight Arrow Connector 19"/>
          <p:cNvCxnSpPr>
            <a:stCxn id="734" idx="0"/>
            <a:endCxn id="731" idx="2"/>
          </p:cNvCxnSpPr>
          <p:nvPr/>
        </p:nvCxnSpPr>
        <p:spPr>
          <a:xfrm flipV="1">
            <a:off x="1523880" y="4907880"/>
            <a:ext cx="8640" cy="62604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lg" type="stealth" w="lg"/>
          </a:ln>
        </p:spPr>
      </p:cxnSp>
      <p:cxnSp>
        <p:nvCxnSpPr>
          <p:cNvPr id="742" name="Straight Arrow Connector 21"/>
          <p:cNvCxnSpPr>
            <a:stCxn id="735" idx="0"/>
            <a:endCxn id="732" idx="2"/>
          </p:cNvCxnSpPr>
          <p:nvPr/>
        </p:nvCxnSpPr>
        <p:spPr>
          <a:xfrm flipH="1" flipV="1">
            <a:off x="2741400" y="4907880"/>
            <a:ext cx="1792800" cy="62604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lg" type="stealth" w="lg"/>
          </a:ln>
        </p:spPr>
      </p:cxnSp>
      <p:cxnSp>
        <p:nvCxnSpPr>
          <p:cNvPr id="743" name="Straight Arrow Connector 23"/>
          <p:cNvCxnSpPr>
            <a:stCxn id="736" idx="1"/>
            <a:endCxn id="733" idx="3"/>
          </p:cNvCxnSpPr>
          <p:nvPr/>
        </p:nvCxnSpPr>
        <p:spPr>
          <a:xfrm flipH="1" flipV="1">
            <a:off x="3885840" y="4747320"/>
            <a:ext cx="2057760" cy="95652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lg" type="stealth" w="lg"/>
          </a:ln>
        </p:spPr>
      </p:cxnSp>
      <p:cxnSp>
        <p:nvCxnSpPr>
          <p:cNvPr id="744" name="Straight Arrow Connector 25"/>
          <p:cNvCxnSpPr>
            <a:stCxn id="738" idx="1"/>
            <a:endCxn id="737" idx="3"/>
          </p:cNvCxnSpPr>
          <p:nvPr/>
        </p:nvCxnSpPr>
        <p:spPr>
          <a:xfrm flipH="1" flipV="1">
            <a:off x="3346200" y="4217760"/>
            <a:ext cx="2597760" cy="34992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lg" type="stealth" w="lg"/>
          </a:ln>
        </p:spPr>
      </p:cxnSp>
      <p:cxnSp>
        <p:nvCxnSpPr>
          <p:cNvPr id="745" name="Straight Arrow Connector 29"/>
          <p:cNvCxnSpPr>
            <a:stCxn id="739" idx="1"/>
          </p:cNvCxnSpPr>
          <p:nvPr/>
        </p:nvCxnSpPr>
        <p:spPr>
          <a:xfrm flipH="1" flipV="1">
            <a:off x="2513880" y="2056680"/>
            <a:ext cx="3429720" cy="141372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lg" type="stealth" w="lg"/>
          </a:ln>
        </p:spPr>
      </p:cxnSp>
      <p:cxnSp>
        <p:nvCxnSpPr>
          <p:cNvPr id="746" name="Straight Arrow Connector 31"/>
          <p:cNvCxnSpPr>
            <a:stCxn id="739" idx="1"/>
          </p:cNvCxnSpPr>
          <p:nvPr/>
        </p:nvCxnSpPr>
        <p:spPr>
          <a:xfrm flipH="1" flipV="1">
            <a:off x="3997080" y="2056680"/>
            <a:ext cx="1946880" cy="141372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lg" type="stealth" w="lg"/>
          </a:ln>
        </p:spPr>
      </p:cxnSp>
      <p:sp>
        <p:nvSpPr>
          <p:cNvPr id="747" name="عنصر نائب للتاريخ 2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عنصر نائب للتذييل 2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igital Sig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5"/>
          <p:cNvSpPr/>
          <p:nvPr/>
        </p:nvSpPr>
        <p:spPr>
          <a:xfrm>
            <a:off x="457200" y="1371600"/>
            <a:ext cx="8153280" cy="27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e the following information for the digital signal show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plitu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d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quency 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High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Low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ty Cycle (D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1063-9914-4E24-94DF-BC8A27277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tretch/>
        </p:blipFill>
        <p:spPr>
          <a:xfrm>
            <a:off x="3341520" y="2316240"/>
            <a:ext cx="5116680" cy="4389480"/>
          </a:xfrm>
          <a:prstGeom prst="rect">
            <a:avLst/>
          </a:prstGeom>
          <a:ln w="0">
            <a:noFill/>
          </a:ln>
        </p:spPr>
      </p:pic>
      <p:sp>
        <p:nvSpPr>
          <p:cNvPr id="753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عنصر نائب للتذييل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igital Sig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5"/>
          <p:cNvSpPr/>
          <p:nvPr/>
        </p:nvSpPr>
        <p:spPr>
          <a:xfrm>
            <a:off x="457200" y="1382760"/>
            <a:ext cx="8153280" cy="51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plit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d (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quency (f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CE73-5E27-42C5-B0A0-6320E8DAE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2" descr=""/>
          <p:cNvPicPr/>
          <p:nvPr/>
        </p:nvPicPr>
        <p:blipFill>
          <a:blip r:embed="rId1"/>
          <a:stretch/>
        </p:blipFill>
        <p:spPr>
          <a:xfrm>
            <a:off x="3951360" y="1295280"/>
            <a:ext cx="5116320" cy="438948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6"/>
          <p:cNvSpPr/>
          <p:nvPr/>
        </p:nvSpPr>
        <p:spPr>
          <a:xfrm>
            <a:off x="6978600" y="3251160"/>
            <a:ext cx="474840" cy="4111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7"/>
          <p:cNvSpPr/>
          <p:nvPr/>
        </p:nvSpPr>
        <p:spPr>
          <a:xfrm>
            <a:off x="6675480" y="293364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m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9"/>
          <p:cNvSpPr/>
          <p:nvPr/>
        </p:nvSpPr>
        <p:spPr>
          <a:xfrm>
            <a:off x="7525800" y="330372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v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2" name="Straight Arrow Connector 11"/>
          <p:cNvCxnSpPr>
            <a:endCxn id="760" idx="1"/>
          </p:cNvCxnSpPr>
          <p:nvPr/>
        </p:nvCxnSpPr>
        <p:spPr>
          <a:xfrm flipV="1">
            <a:off x="4821120" y="3087000"/>
            <a:ext cx="1853280" cy="190404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lg" type="stealth" w="lg"/>
          </a:ln>
        </p:spPr>
      </p:cxnSp>
      <p:cxnSp>
        <p:nvCxnSpPr>
          <p:cNvPr id="763" name="Straight Arrow Connector 12"/>
          <p:cNvCxnSpPr>
            <a:endCxn id="761" idx="1"/>
          </p:cNvCxnSpPr>
          <p:nvPr/>
        </p:nvCxnSpPr>
        <p:spPr>
          <a:xfrm flipV="1">
            <a:off x="6192720" y="3457080"/>
            <a:ext cx="1332720" cy="153432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lg" type="stealth" w="lg"/>
          </a:ln>
        </p:spPr>
      </p:cxnSp>
      <mc:AlternateContent>
        <mc:Choice xmlns:a14="http://schemas.microsoft.com/office/drawing/2010/main" Requires="a14">
          <p:sp>
            <p:nvSpPr>
              <p:cNvPr id="764" name="Object 2"/>
              <p:cNvSpPr txBox="1"/>
              <p:nvPr/>
            </p:nvSpPr>
            <p:spPr>
              <a:xfrm>
                <a:off x="1055520" y="2103480"/>
                <a:ext cx="24386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mplitud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 div 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 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i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mplitud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 v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ct 3"/>
              <p:cNvSpPr txBox="1"/>
              <p:nvPr/>
            </p:nvSpPr>
            <p:spPr>
              <a:xfrm>
                <a:off x="1066680" y="3695760"/>
                <a:ext cx="152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 div 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 m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i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8 ms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Object 4"/>
              <p:cNvSpPr txBox="1"/>
              <p:nvPr/>
            </p:nvSpPr>
            <p:spPr>
              <a:xfrm>
                <a:off x="1066680" y="5264280"/>
                <a:ext cx="11988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 m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25 Hz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7" name="عنصر نائب للتاريخ 1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عنصر نائب للتذييل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igital Sig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5"/>
          <p:cNvSpPr/>
          <p:nvPr/>
        </p:nvSpPr>
        <p:spPr>
          <a:xfrm>
            <a:off x="457200" y="1382760"/>
            <a:ext cx="8153280" cy="55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High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Low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ty Cycle (DC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80D9-7D5C-4A7F-8729-9E555D805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"/>
          <p:cNvPicPr/>
          <p:nvPr/>
        </p:nvPicPr>
        <p:blipFill>
          <a:blip r:embed="rId1"/>
          <a:stretch/>
        </p:blipFill>
        <p:spPr>
          <a:xfrm>
            <a:off x="3951360" y="1295280"/>
            <a:ext cx="5116320" cy="438948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6"/>
          <p:cNvSpPr/>
          <p:nvPr/>
        </p:nvSpPr>
        <p:spPr>
          <a:xfrm>
            <a:off x="6978600" y="3251160"/>
            <a:ext cx="474840" cy="4111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7"/>
          <p:cNvSpPr/>
          <p:nvPr/>
        </p:nvSpPr>
        <p:spPr>
          <a:xfrm>
            <a:off x="6675480" y="293364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m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9"/>
          <p:cNvSpPr/>
          <p:nvPr/>
        </p:nvSpPr>
        <p:spPr>
          <a:xfrm>
            <a:off x="7525800" y="330372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v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6" name="Straight Arrow Connector 11"/>
          <p:cNvCxnSpPr>
            <a:endCxn id="774" idx="1"/>
          </p:cNvCxnSpPr>
          <p:nvPr/>
        </p:nvCxnSpPr>
        <p:spPr>
          <a:xfrm flipV="1">
            <a:off x="4821120" y="3087000"/>
            <a:ext cx="1853280" cy="190404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lg" type="stealth" w="lg"/>
          </a:ln>
        </p:spPr>
      </p:cxnSp>
      <p:cxnSp>
        <p:nvCxnSpPr>
          <p:cNvPr id="777" name="Straight Arrow Connector 12"/>
          <p:cNvCxnSpPr>
            <a:endCxn id="775" idx="1"/>
          </p:cNvCxnSpPr>
          <p:nvPr/>
        </p:nvCxnSpPr>
        <p:spPr>
          <a:xfrm flipV="1">
            <a:off x="6192720" y="3457080"/>
            <a:ext cx="1332720" cy="153432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lg" type="stealth" w="lg"/>
          </a:ln>
        </p:spPr>
      </p:cxnSp>
      <mc:AlternateContent>
        <mc:Choice xmlns:a14="http://schemas.microsoft.com/office/drawing/2010/main" Requires="a14">
          <p:sp>
            <p:nvSpPr>
              <p:cNvPr id="778" name="Object 2"/>
              <p:cNvSpPr txBox="1"/>
              <p:nvPr/>
            </p:nvSpPr>
            <p:spPr>
              <a:xfrm>
                <a:off x="1066680" y="2201760"/>
                <a:ext cx="17575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div 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 m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i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Object 3"/>
              <p:cNvSpPr txBox="1"/>
              <p:nvPr/>
            </p:nvSpPr>
            <p:spPr>
              <a:xfrm>
                <a:off x="1066680" y="5237280"/>
                <a:ext cx="19893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rPr>
                            <m:lit/>
                            <m:nor/>
                          </m:rPr>
                          <m:t xml:space="preserve">=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 m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 ms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C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0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Object 4"/>
              <p:cNvSpPr txBox="1"/>
              <p:nvPr/>
            </p:nvSpPr>
            <p:spPr>
              <a:xfrm>
                <a:off x="1066680" y="3728880"/>
                <a:ext cx="17161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div 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 m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i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1" name="عنصر نائب للتاريخ 1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عنصر نائب للتذييل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 Measurement with Mar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rkers can be used to measure the period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ext sli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7F81-9407-44A4-8C64-085E5CC95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2" descr=""/>
          <p:cNvPicPr/>
          <p:nvPr/>
        </p:nvPicPr>
        <p:blipFill>
          <a:blip r:embed="rId1"/>
          <a:stretch/>
        </p:blipFill>
        <p:spPr>
          <a:xfrm>
            <a:off x="541440" y="2438280"/>
            <a:ext cx="5570280" cy="4267440"/>
          </a:xfrm>
          <a:prstGeom prst="rect">
            <a:avLst/>
          </a:prstGeom>
          <a:ln w="0">
            <a:noFill/>
          </a:ln>
        </p:spPr>
      </p:pic>
      <p:sp>
        <p:nvSpPr>
          <p:cNvPr id="787" name="Oval 4"/>
          <p:cNvSpPr/>
          <p:nvPr/>
        </p:nvSpPr>
        <p:spPr>
          <a:xfrm>
            <a:off x="1120680" y="5535720"/>
            <a:ext cx="609840" cy="228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5"/>
          <p:cNvSpPr/>
          <p:nvPr/>
        </p:nvSpPr>
        <p:spPr>
          <a:xfrm>
            <a:off x="6477120" y="3048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d (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Object 2"/>
              <p:cNvSpPr txBox="1"/>
              <p:nvPr/>
            </p:nvSpPr>
            <p:spPr>
              <a:xfrm>
                <a:off x="6967440" y="3562200"/>
                <a:ext cx="12621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8 ms  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90" name="Straight Arrow Connector 8"/>
          <p:cNvCxnSpPr>
            <a:stCxn id="788" idx="1"/>
            <a:endCxn id="787" idx="6"/>
          </p:cNvCxnSpPr>
          <p:nvPr/>
        </p:nvCxnSpPr>
        <p:spPr>
          <a:xfrm flipH="1">
            <a:off x="1729800" y="3247920"/>
            <a:ext cx="4747320" cy="240264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lg" type="stealth" w="lg"/>
          </a:ln>
        </p:spPr>
      </p:cxnSp>
      <p:sp>
        <p:nvSpPr>
          <p:cNvPr id="791" name="عنصر نائب للتاريخ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عنصر نائب للتذييل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&amp; 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 with Mar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47B9-F4A2-432A-BB0F-4A246B52C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5"/>
          <p:cNvSpPr/>
          <p:nvPr/>
        </p:nvSpPr>
        <p:spPr>
          <a:xfrm>
            <a:off x="5486400" y="5410080"/>
            <a:ext cx="2819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High (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3" descr=""/>
          <p:cNvPicPr/>
          <p:nvPr/>
        </p:nvPicPr>
        <p:blipFill>
          <a:blip r:embed="rId1"/>
          <a:stretch/>
        </p:blipFill>
        <p:spPr>
          <a:xfrm>
            <a:off x="0" y="3006720"/>
            <a:ext cx="5029200" cy="38512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4" descr=""/>
          <p:cNvPicPr/>
          <p:nvPr/>
        </p:nvPicPr>
        <p:blipFill>
          <a:blip r:embed="rId2"/>
          <a:stretch/>
        </p:blipFill>
        <p:spPr>
          <a:xfrm>
            <a:off x="4114800" y="1276200"/>
            <a:ext cx="5029200" cy="3851280"/>
          </a:xfrm>
          <a:prstGeom prst="rect">
            <a:avLst/>
          </a:prstGeom>
          <a:ln w="0">
            <a:noFill/>
          </a:ln>
        </p:spPr>
      </p:pic>
      <p:sp>
        <p:nvSpPr>
          <p:cNvPr id="798" name="Oval 4"/>
          <p:cNvSpPr/>
          <p:nvPr/>
        </p:nvSpPr>
        <p:spPr>
          <a:xfrm>
            <a:off x="533520" y="5791320"/>
            <a:ext cx="609480" cy="228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9" name="Straight Arrow Connector 8"/>
          <p:cNvCxnSpPr>
            <a:stCxn id="795" idx="1"/>
            <a:endCxn id="798" idx="6"/>
          </p:cNvCxnSpPr>
          <p:nvPr/>
        </p:nvCxnSpPr>
        <p:spPr>
          <a:xfrm flipH="1">
            <a:off x="1142640" y="5608800"/>
            <a:ext cx="4343760" cy="29736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lg" type="stealth" w="lg"/>
          </a:ln>
        </p:spPr>
      </p:cxnSp>
      <mc:AlternateContent>
        <mc:Choice xmlns:a14="http://schemas.microsoft.com/office/drawing/2010/main" Requires="a14">
          <p:sp>
            <p:nvSpPr>
              <p:cNvPr id="800" name="Object 2"/>
              <p:cNvSpPr txBox="1"/>
              <p:nvPr/>
            </p:nvSpPr>
            <p:spPr>
              <a:xfrm>
                <a:off x="1106640" y="2092320"/>
                <a:ext cx="15602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4 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Object 3"/>
              <p:cNvSpPr txBox="1"/>
              <p:nvPr/>
            </p:nvSpPr>
            <p:spPr>
              <a:xfrm>
                <a:off x="6084720" y="5916600"/>
                <a:ext cx="16084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6 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Oval 19"/>
          <p:cNvSpPr/>
          <p:nvPr/>
        </p:nvSpPr>
        <p:spPr>
          <a:xfrm>
            <a:off x="4633920" y="4060800"/>
            <a:ext cx="609480" cy="228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62120" y="1600200"/>
            <a:ext cx="190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High (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4" name="Straight Arrow Connector 21"/>
          <p:cNvCxnSpPr>
            <a:stCxn id="803" idx="3"/>
            <a:endCxn id="802" idx="1"/>
          </p:cNvCxnSpPr>
          <p:nvPr/>
        </p:nvCxnSpPr>
        <p:spPr>
          <a:xfrm>
            <a:off x="2666520" y="1800360"/>
            <a:ext cx="2057760" cy="229464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lg" type="stealth" w="lg"/>
          </a:ln>
        </p:spPr>
      </p:cxnSp>
      <p:sp>
        <p:nvSpPr>
          <p:cNvPr id="805" name="عنصر نائب للتاريخ 1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عنصر نائب للتذييل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nalogue and Digital waveforms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easurements using an oscillosco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1E11-6BC4-46ED-AE1D-49FAE3F46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عنصر نائب للتاريخ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عنصر نائب للتذييل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og &amp; Digital Sig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54F7-6F69-4F2B-B3A1-EA882C0A0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Content Placeholder 2"/>
          <p:cNvSpPr/>
          <p:nvPr/>
        </p:nvSpPr>
        <p:spPr>
          <a:xfrm>
            <a:off x="457200" y="1523880"/>
            <a:ext cx="8686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definitions of analog and digital sig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the components of an analog sig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logic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the components of a digital sig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function of the virtual oscillosc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عنصر نائب للتذييل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og and Digital Sig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6840" y="2174400"/>
            <a:ext cx="404028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te range of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xact values, but more difficult to work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644720" y="2174760"/>
            <a:ext cx="4041720" cy="17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range of value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exact as analog, but easier to work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885D-E2FC-46A6-BF6C-C1AE95F0E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8"/>
          <p:cNvSpPr/>
          <p:nvPr/>
        </p:nvSpPr>
        <p:spPr>
          <a:xfrm>
            <a:off x="457200" y="3886200"/>
            <a:ext cx="79246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gital thermostat in a room displays a temperature of 7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n analog thermometer measures the room temperature at 72.48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analog value is continuous and more accurate, but the digital value is more than adequate for the application and significantly easier to process electron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عنصر نائب للتاريخ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عنصر نائب للتذييل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Analog Sig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nalog signal can be any time-varying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and maximum values can be either positive or neg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can be periodic (repeating) or non-period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e waves and square waves are two common analog sign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this square wave is not a digital signal because its minimum value is neg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620F-AE85-4576-A450-718696C2D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14"/>
          <p:cNvGrpSpPr/>
          <p:nvPr/>
        </p:nvGrpSpPr>
        <p:grpSpPr>
          <a:xfrm>
            <a:off x="-29520" y="3781440"/>
            <a:ext cx="8605080" cy="2767680"/>
            <a:chOff x="-29520" y="3781440"/>
            <a:chExt cx="8605080" cy="2767680"/>
          </a:xfrm>
        </p:grpSpPr>
        <p:sp>
          <p:nvSpPr>
            <p:cNvPr id="638" name="TextBox 15"/>
            <p:cNvSpPr/>
            <p:nvPr/>
          </p:nvSpPr>
          <p:spPr>
            <a:xfrm>
              <a:off x="-29520" y="480024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Straight Connector 16"/>
            <p:cNvSpPr/>
            <p:nvPr/>
          </p:nvSpPr>
          <p:spPr>
            <a:xfrm>
              <a:off x="788760" y="5014800"/>
              <a:ext cx="1839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0" name="Picture 3" descr=""/>
            <p:cNvPicPr/>
            <p:nvPr/>
          </p:nvPicPr>
          <p:blipFill>
            <a:blip r:embed="rId1"/>
            <a:stretch/>
          </p:blipFill>
          <p:spPr>
            <a:xfrm>
              <a:off x="1001520" y="3781440"/>
              <a:ext cx="2468520" cy="24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" descr=""/>
            <p:cNvPicPr/>
            <p:nvPr/>
          </p:nvPicPr>
          <p:blipFill>
            <a:blip r:embed="rId2"/>
            <a:stretch/>
          </p:blipFill>
          <p:spPr>
            <a:xfrm>
              <a:off x="3561840" y="3781440"/>
              <a:ext cx="2468520" cy="24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7" descr=""/>
            <p:cNvPicPr/>
            <p:nvPr/>
          </p:nvPicPr>
          <p:blipFill>
            <a:blip r:embed="rId3"/>
            <a:stretch/>
          </p:blipFill>
          <p:spPr>
            <a:xfrm>
              <a:off x="6107040" y="3781440"/>
              <a:ext cx="24685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TextBox 6"/>
            <p:cNvSpPr/>
            <p:nvPr/>
          </p:nvSpPr>
          <p:spPr>
            <a:xfrm>
              <a:off x="1530000" y="5906880"/>
              <a:ext cx="141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ne Wa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7"/>
            <p:cNvSpPr/>
            <p:nvPr/>
          </p:nvSpPr>
          <p:spPr>
            <a:xfrm>
              <a:off x="3933720" y="5906880"/>
              <a:ext cx="172440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quare Wa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not digita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8"/>
            <p:cNvSpPr/>
            <p:nvPr/>
          </p:nvSpPr>
          <p:spPr>
            <a:xfrm>
              <a:off x="6257520" y="5906880"/>
              <a:ext cx="214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ndom-Period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عنصر نائب للتاريخ 1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عنصر نائب للتذييل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an Analog Sig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473B-946D-4EB7-A539-561AE4AA7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25"/>
          <p:cNvGrpSpPr/>
          <p:nvPr/>
        </p:nvGrpSpPr>
        <p:grpSpPr>
          <a:xfrm>
            <a:off x="689400" y="2057400"/>
            <a:ext cx="5978160" cy="3657600"/>
            <a:chOff x="689400" y="2057400"/>
            <a:chExt cx="5978160" cy="3657600"/>
          </a:xfrm>
        </p:grpSpPr>
        <p:pic>
          <p:nvPicPr>
            <p:cNvPr id="651" name="Picture 3" descr=""/>
            <p:cNvPicPr/>
            <p:nvPr/>
          </p:nvPicPr>
          <p:blipFill>
            <a:blip r:embed="rId1"/>
            <a:stretch/>
          </p:blipFill>
          <p:spPr>
            <a:xfrm>
              <a:off x="3010320" y="2057400"/>
              <a:ext cx="36572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Straight Connector 7"/>
            <p:cNvSpPr/>
            <p:nvPr/>
          </p:nvSpPr>
          <p:spPr>
            <a:xfrm>
              <a:off x="799920" y="2666880"/>
              <a:ext cx="256068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Straight Connector 10"/>
            <p:cNvSpPr/>
            <p:nvPr/>
          </p:nvSpPr>
          <p:spPr>
            <a:xfrm>
              <a:off x="799920" y="5083200"/>
              <a:ext cx="347508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Straight Connector 11"/>
            <p:cNvSpPr/>
            <p:nvPr/>
          </p:nvSpPr>
          <p:spPr>
            <a:xfrm>
              <a:off x="1836720" y="3886200"/>
              <a:ext cx="109692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5" name="Straight Arrow Connector 15"/>
            <p:cNvCxnSpPr/>
            <p:nvPr/>
          </p:nvCxnSpPr>
          <p:spPr>
            <a:xfrm flipH="1">
              <a:off x="1256760" y="2666520"/>
              <a:ext cx="2160" cy="242316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656" name="TextBox 13"/>
            <p:cNvSpPr/>
            <p:nvPr/>
          </p:nvSpPr>
          <p:spPr>
            <a:xfrm>
              <a:off x="689400" y="3626640"/>
              <a:ext cx="1174320" cy="51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mplitu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peak-to-pea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7" name="Straight Arrow Connector 16"/>
            <p:cNvCxnSpPr/>
            <p:nvPr/>
          </p:nvCxnSpPr>
          <p:spPr>
            <a:xfrm flipH="1">
              <a:off x="2474640" y="2682360"/>
              <a:ext cx="2160" cy="11898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658" name="TextBox 12"/>
            <p:cNvSpPr/>
            <p:nvPr/>
          </p:nvSpPr>
          <p:spPr>
            <a:xfrm>
              <a:off x="1920600" y="3047760"/>
              <a:ext cx="1084320" cy="51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mplitu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pea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Straight Connector 20"/>
            <p:cNvSpPr/>
            <p:nvPr/>
          </p:nvSpPr>
          <p:spPr>
            <a:xfrm flipV="1">
              <a:off x="6613920" y="2209320"/>
              <a:ext cx="1440" cy="15541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Straight Connector 22"/>
            <p:cNvSpPr/>
            <p:nvPr/>
          </p:nvSpPr>
          <p:spPr>
            <a:xfrm flipV="1">
              <a:off x="4824360" y="2209320"/>
              <a:ext cx="1440" cy="15541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1" name="Straight Arrow Connector 24"/>
            <p:cNvCxnSpPr/>
            <p:nvPr/>
          </p:nvCxnSpPr>
          <p:spPr>
            <a:xfrm flipH="1" flipV="1">
              <a:off x="4822560" y="2437920"/>
              <a:ext cx="1783440" cy="216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662" name="TextBox 23"/>
            <p:cNvSpPr/>
            <p:nvPr/>
          </p:nvSpPr>
          <p:spPr>
            <a:xfrm>
              <a:off x="5362200" y="2160720"/>
              <a:ext cx="76752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3" name="Object 17"/>
              <p:cNvSpPr txBox="1"/>
              <p:nvPr/>
            </p:nvSpPr>
            <p:spPr>
              <a:xfrm>
                <a:off x="7543800" y="3276720"/>
                <a:ext cx="11016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TextBox 18"/>
          <p:cNvSpPr/>
          <p:nvPr/>
        </p:nvSpPr>
        <p:spPr>
          <a:xfrm>
            <a:off x="7018200" y="28954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عنصر نائب للتاريخ 1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عنصر نائب للتذييل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6840" y="121896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examining digital signals, we must define logic levels. A logic level is a voltage level that represents a defined digital stat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HIGH: The higher of two voltages, typically 5 vo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OW: The lower of two voltages, typically 0 vo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9E37-0B29-4069-97CA-11C35A856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8"/>
          <p:cNvSpPr/>
          <p:nvPr/>
        </p:nvSpPr>
        <p:spPr>
          <a:xfrm>
            <a:off x="458640" y="34653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9"/>
          <p:cNvSpPr/>
          <p:nvPr/>
        </p:nvSpPr>
        <p:spPr>
          <a:xfrm>
            <a:off x="458640" y="50436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0"/>
          <p:cNvSpPr/>
          <p:nvPr/>
        </p:nvSpPr>
        <p:spPr>
          <a:xfrm>
            <a:off x="458640" y="5729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1"/>
          <p:cNvSpPr/>
          <p:nvPr/>
        </p:nvSpPr>
        <p:spPr>
          <a:xfrm>
            <a:off x="458640" y="61866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2"/>
          <p:cNvSpPr/>
          <p:nvPr/>
        </p:nvSpPr>
        <p:spPr>
          <a:xfrm>
            <a:off x="1143000" y="3627360"/>
            <a:ext cx="1371600" cy="1716120"/>
          </a:xfrm>
          <a:prstGeom prst="rect">
            <a:avLst/>
          </a:prstGeom>
          <a:solidFill>
            <a:srgbClr val="ff0000">
              <a:alpha val="70000"/>
            </a:srgbClr>
          </a:solidFill>
          <a:ln w="28440">
            <a:solidFill>
              <a:srgbClr val="0000f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5"/>
          <p:cNvSpPr/>
          <p:nvPr/>
        </p:nvSpPr>
        <p:spPr>
          <a:xfrm>
            <a:off x="1143000" y="6051600"/>
            <a:ext cx="1371600" cy="469800"/>
          </a:xfrm>
          <a:prstGeom prst="rect">
            <a:avLst/>
          </a:prstGeom>
          <a:solidFill>
            <a:srgbClr val="ff0000">
              <a:alpha val="70000"/>
            </a:srgbClr>
          </a:solidFill>
          <a:ln w="28440">
            <a:solidFill>
              <a:srgbClr val="0000f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4"/>
          <p:cNvSpPr/>
          <p:nvPr/>
        </p:nvSpPr>
        <p:spPr>
          <a:xfrm>
            <a:off x="1143000" y="3627360"/>
            <a:ext cx="1371600" cy="28940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6"/>
          <p:cNvSpPr/>
          <p:nvPr/>
        </p:nvSpPr>
        <p:spPr>
          <a:xfrm>
            <a:off x="1225440" y="613584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7"/>
          <p:cNvSpPr/>
          <p:nvPr/>
        </p:nvSpPr>
        <p:spPr>
          <a:xfrm>
            <a:off x="1200240" y="42577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8"/>
          <p:cNvSpPr/>
          <p:nvPr/>
        </p:nvSpPr>
        <p:spPr>
          <a:xfrm>
            <a:off x="1442880" y="5324400"/>
            <a:ext cx="69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3048120" y="4572000"/>
          <a:ext cx="5562360" cy="1108080"/>
        </p:xfrm>
        <a:graphic>
          <a:graphicData uri="http://schemas.openxmlformats.org/drawingml/2006/table">
            <a:tbl>
              <a:tblPr/>
              <a:tblGrid>
                <a:gridCol w="1447560"/>
                <a:gridCol w="1067040"/>
                <a:gridCol w="1447560"/>
                <a:gridCol w="990720"/>
                <a:gridCol w="60948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/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/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vo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vo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1" name="عنصر نائب للتاريخ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عنصر نائب للتذييل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Digital Sig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295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signal are commonly referred to as square waves or clock sign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minimum value must be 0 volts, and their maximum value must be 5 vo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can be periodic (repeating) or non-period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me the signal is high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an vary anywhere from 1% of the period to 99% of the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758D-EB89-4CF6-9456-CDE935E3F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990720" y="3778200"/>
            <a:ext cx="2469960" cy="24703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3" descr=""/>
          <p:cNvPicPr/>
          <p:nvPr/>
        </p:nvPicPr>
        <p:blipFill>
          <a:blip r:embed="rId2"/>
          <a:stretch/>
        </p:blipFill>
        <p:spPr>
          <a:xfrm>
            <a:off x="3581280" y="3778200"/>
            <a:ext cx="2470320" cy="24703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"/>
          <p:cNvPicPr/>
          <p:nvPr/>
        </p:nvPicPr>
        <p:blipFill>
          <a:blip r:embed="rId3"/>
          <a:stretch/>
        </p:blipFill>
        <p:spPr>
          <a:xfrm>
            <a:off x="6172200" y="3778200"/>
            <a:ext cx="2378160" cy="2470320"/>
          </a:xfrm>
          <a:prstGeom prst="rect">
            <a:avLst/>
          </a:prstGeom>
          <a:ln w="0">
            <a:noFill/>
          </a:ln>
        </p:spPr>
      </p:pic>
      <p:sp>
        <p:nvSpPr>
          <p:cNvPr id="689" name="TextBox 9"/>
          <p:cNvSpPr/>
          <p:nvPr/>
        </p:nvSpPr>
        <p:spPr>
          <a:xfrm>
            <a:off x="-7560" y="47815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0"/>
          <p:cNvSpPr/>
          <p:nvPr/>
        </p:nvSpPr>
        <p:spPr>
          <a:xfrm>
            <a:off x="777960" y="5002200"/>
            <a:ext cx="182520" cy="1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1"/>
          <p:cNvSpPr/>
          <p:nvPr/>
        </p:nvSpPr>
        <p:spPr>
          <a:xfrm>
            <a:off x="5040" y="37908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vo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12"/>
          <p:cNvSpPr/>
          <p:nvPr/>
        </p:nvSpPr>
        <p:spPr>
          <a:xfrm>
            <a:off x="790560" y="3997440"/>
            <a:ext cx="184320" cy="1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عنصر نائب للتاريخ 1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عنصر نائب للتذييل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a Digital Sig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7CC8-87A5-48D1-900B-AC51B66FE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11"/>
          <p:cNvSpPr/>
          <p:nvPr/>
        </p:nvSpPr>
        <p:spPr>
          <a:xfrm>
            <a:off x="4114800" y="3683160"/>
            <a:ext cx="457200" cy="1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8" name="Straight Arrow Connector 16"/>
          <p:cNvCxnSpPr/>
          <p:nvPr/>
        </p:nvCxnSpPr>
        <p:spPr>
          <a:xfrm flipH="1">
            <a:off x="4265280" y="1905120"/>
            <a:ext cx="2160" cy="1783440"/>
          </a:xfrm>
          <a:prstGeom prst="straightConnector1">
            <a:avLst/>
          </a:prstGeom>
          <a:ln w="1260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sp>
        <p:nvSpPr>
          <p:cNvPr id="699" name="TextBox 12"/>
          <p:cNvSpPr/>
          <p:nvPr/>
        </p:nvSpPr>
        <p:spPr>
          <a:xfrm rot="16200000">
            <a:off x="3712680" y="2648880"/>
            <a:ext cx="1084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2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343400" cy="4495680"/>
          </a:xfrm>
          <a:prstGeom prst="rect">
            <a:avLst/>
          </a:prstGeom>
          <a:ln w="0">
            <a:noFill/>
          </a:ln>
        </p:spPr>
      </p:pic>
      <p:sp>
        <p:nvSpPr>
          <p:cNvPr id="701" name="Straight Connector 18"/>
          <p:cNvSpPr/>
          <p:nvPr/>
        </p:nvSpPr>
        <p:spPr>
          <a:xfrm>
            <a:off x="4114800" y="1878120"/>
            <a:ext cx="457200" cy="1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Straight Arrow Connector 19"/>
          <p:cNvCxnSpPr/>
          <p:nvPr/>
        </p:nvCxnSpPr>
        <p:spPr>
          <a:xfrm flipH="1" flipV="1">
            <a:off x="4753800" y="2536560"/>
            <a:ext cx="1189800" cy="2160"/>
          </a:xfrm>
          <a:prstGeom prst="straightConnector1">
            <a:avLst/>
          </a:prstGeom>
          <a:ln w="1260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sp>
        <p:nvSpPr>
          <p:cNvPr id="703" name="TextBox 21"/>
          <p:cNvSpPr/>
          <p:nvPr/>
        </p:nvSpPr>
        <p:spPr>
          <a:xfrm>
            <a:off x="5076000" y="2668680"/>
            <a:ext cx="561600" cy="66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4" name="Straight Arrow Connector 25"/>
          <p:cNvCxnSpPr/>
          <p:nvPr/>
        </p:nvCxnSpPr>
        <p:spPr>
          <a:xfrm flipH="1" flipV="1">
            <a:off x="5971320" y="2536560"/>
            <a:ext cx="824760" cy="2160"/>
          </a:xfrm>
          <a:prstGeom prst="straightConnector1">
            <a:avLst/>
          </a:prstGeom>
          <a:ln w="1260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sp>
        <p:nvSpPr>
          <p:cNvPr id="705" name="TextBox 26"/>
          <p:cNvSpPr/>
          <p:nvPr/>
        </p:nvSpPr>
        <p:spPr>
          <a:xfrm>
            <a:off x="6041880" y="2668680"/>
            <a:ext cx="587520" cy="66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20"/>
          <p:cNvSpPr/>
          <p:nvPr/>
        </p:nvSpPr>
        <p:spPr>
          <a:xfrm flipV="1">
            <a:off x="6807960" y="3795480"/>
            <a:ext cx="1800" cy="10969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22"/>
          <p:cNvSpPr/>
          <p:nvPr/>
        </p:nvSpPr>
        <p:spPr>
          <a:xfrm flipV="1">
            <a:off x="4739400" y="3795480"/>
            <a:ext cx="1800" cy="10969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8" name="Straight Arrow Connector 24"/>
          <p:cNvCxnSpPr/>
          <p:nvPr/>
        </p:nvCxnSpPr>
        <p:spPr>
          <a:xfrm flipH="1" flipV="1">
            <a:off x="4769640" y="4230360"/>
            <a:ext cx="2012040" cy="2160"/>
          </a:xfrm>
          <a:prstGeom prst="straightConnector1">
            <a:avLst/>
          </a:prstGeom>
          <a:ln w="1260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sp>
        <p:nvSpPr>
          <p:cNvPr id="709" name="TextBox 23"/>
          <p:cNvSpPr/>
          <p:nvPr/>
        </p:nvSpPr>
        <p:spPr>
          <a:xfrm>
            <a:off x="5105520" y="4081320"/>
            <a:ext cx="1218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 (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28"/>
          <p:cNvSpPr/>
          <p:nvPr/>
        </p:nvSpPr>
        <p:spPr>
          <a:xfrm>
            <a:off x="7763040" y="3886200"/>
            <a:ext cx="1142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ing 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9"/>
          <p:cNvSpPr/>
          <p:nvPr/>
        </p:nvSpPr>
        <p:spPr>
          <a:xfrm>
            <a:off x="7740000" y="1509840"/>
            <a:ext cx="1171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ling 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2" name="Straight Arrow Connector 31"/>
          <p:cNvCxnSpPr>
            <a:stCxn id="710" idx="1"/>
          </p:cNvCxnSpPr>
          <p:nvPr/>
        </p:nvCxnSpPr>
        <p:spPr>
          <a:xfrm flipH="1" flipV="1">
            <a:off x="6857640" y="2818800"/>
            <a:ext cx="900720" cy="122148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13" name="Straight Arrow Connector 35"/>
          <p:cNvCxnSpPr>
            <a:stCxn id="711" idx="2"/>
          </p:cNvCxnSpPr>
          <p:nvPr/>
        </p:nvCxnSpPr>
        <p:spPr>
          <a:xfrm flipH="1">
            <a:off x="8076960" y="1817280"/>
            <a:ext cx="248400" cy="926280"/>
          </a:xfrm>
          <a:prstGeom prst="straightConnector1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714" name="TextBox 39"/>
          <p:cNvSpPr/>
          <p:nvPr/>
        </p:nvSpPr>
        <p:spPr>
          <a:xfrm>
            <a:off x="152280" y="1295280"/>
            <a:ext cx="3962520" cy="55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plitu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digital signals, this will ALWAYS be 5 vo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time it takes for a periodic signal to repeat. (secon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measure of the number of occurrences of the signal per second. (Hertz, 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High (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time the signal is at 5 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Low (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time the signal is at 0 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ty Cyc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ratio of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the total period (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ising Edg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0-to-1 transition of the sig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ling Edg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1-to-0 transition of the sig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22"/>
              <p:cNvSpPr txBox="1"/>
              <p:nvPr/>
            </p:nvSpPr>
            <p:spPr>
              <a:xfrm>
                <a:off x="5299200" y="5178600"/>
                <a:ext cx="9493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TextBox 23"/>
          <p:cNvSpPr/>
          <p:nvPr/>
        </p:nvSpPr>
        <p:spPr>
          <a:xfrm>
            <a:off x="4884840" y="47214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Object 23"/>
              <p:cNvSpPr txBox="1"/>
              <p:nvPr/>
            </p:nvSpPr>
            <p:spPr>
              <a:xfrm>
                <a:off x="6541920" y="5178600"/>
                <a:ext cx="229716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tyCycl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8" name="عنصر نائب للتاريخ 2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عنصر نائب للتذييل 2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30:01Z</dcterms:created>
  <dc:creator>DE Revision Team</dc:creator>
  <dc:description/>
  <dc:language>en-US</dc:language>
  <cp:lastModifiedBy>EnGiNeeRx</cp:lastModifiedBy>
  <dcterms:modified xsi:type="dcterms:W3CDTF">2018-10-04T16:37:27Z</dcterms:modified>
  <cp:revision>64</cp:revision>
  <dc:subject>DE - Unit 1 - Lesson 1.2 Introduction to Analog</dc:subject>
  <dc:title>Analog and Digital Signals</dc:title>
</cp:coreProperties>
</file>