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media/image12.gif" ContentType="image/gi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496B-CAF6-42F2-8350-A2BC864DA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D5A2-3E66-4A6F-AB6E-C45AE149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4A83F-82DC-4D44-9974-A989E608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78E50-D8AA-49AE-ABA1-937FF5F6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F7558-C8BF-4AC0-AB54-6994D39B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6D00A-C182-441E-8102-BE1C9A3F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9CA73C-1B30-4FA3-95E0-EDC134E7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E19B6-B46C-44B8-B7FD-C84976C6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D74CD-8A54-4078-AD02-A9C7D3DC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FB643-7DF2-49A3-A9C9-E7FCDEB0A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E82AE-8575-4060-9D6A-203AA18F5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C2664-236A-4D4F-B550-8D55F5A3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0469-577D-4A39-8CF3-211CB4A01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0F9F03-8A32-4A46-990F-59596038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AE5DC-1524-4B28-9038-185C6F9C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51F0D-D339-4779-B754-94B27E5B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C52E5-E505-4994-A24D-91616DA5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86EA0-A1E0-4C42-9B81-06A9335E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BD5EA-CFC8-4CD0-B352-D7851F23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E6F52-B98D-4867-AA6D-96E3A460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4F7B3-1BB7-4335-83D6-842803D2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99CA9-8B68-4DC2-A908-76FAF849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BED4D-A79A-4845-840D-1B3DD0F26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6FE8-914F-461B-928C-0921FF84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97ED51-8952-45E4-AFAE-2714C8DC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85976-2D7F-44BE-87D4-E9CBC0F7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DBEEE-05FF-4FD9-B2D3-F4903129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F3ACC-E5C4-4912-BE9F-3FA69E9B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FACE3-9F65-4526-9906-E571EA46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8ADB1-630C-4921-BA65-A1098DF7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9BB11-05E4-4FE4-8BBE-926576EA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CA03F-150D-4484-B461-E6B219A7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07D55-8525-4709-80AB-2B9D3741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FF699-8832-4BC1-BB91-FD28EBC9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F90B-1082-4CE5-B5C7-318E0AB0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B73D9-9BBC-475C-A8AB-9E3F9E00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8CC6D-E445-4722-AAD7-0EA4B0585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E71FB-6F37-426F-8643-C7536DDE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9EAAE1-54F9-492E-921D-292C3B72B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F5793B-0AD0-4C6D-ABAC-EEB40507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86C91-EA20-4140-B2CC-22F79400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28BFC-3BB7-4930-8C85-648B31A6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9B72FF-DD3F-40BD-9A07-1CCE23FD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E15374-1725-4999-9FFB-B98BCF17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753D4-03D9-46A2-91AD-A704CCAB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4898-339F-4640-968C-7F93F7F8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B9EA4-814B-4AEF-BCE8-2577CC7B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90C63-5FC6-4FEA-9A68-A7AE4064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0D278-0D00-48EE-91F0-36BC2B49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941E5D-B41D-468E-9DC7-BF57D93C1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1A311-E5C4-47F8-B7B6-D01EA27A0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FB14-6191-4A43-8F52-C47F0A45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1DDC-CD82-4C17-8C20-795D7B7D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B0EE-491D-4880-B420-5DEE63A0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6CF1-F739-45F8-9DAD-50EEE2C6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2DF9-DF55-417F-8F3F-B75B99D5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70FB-A797-4601-8AF5-B05C5E03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FC29-4FB3-43B2-A6B5-D467CFEF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8B06-7614-4915-BA4A-0B590093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E928-421A-471B-B788-AB027C3E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BB1F-58F6-4DE2-B3F6-905D4DB0E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E5A2-5ADB-4ADA-8EAD-F5D9D32F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391A7-3D97-4EDF-9DE4-89154F6A2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57641-D508-4286-89C5-D4A3E15B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A385E-33C7-4896-94F5-8C057D87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EB833-B19E-4FB7-880F-B94FC1D3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261FC-F161-4BAF-9516-990939C5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0950-A92A-406F-879F-F1FE0F81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0CD1D-223F-41D0-B493-864DD84A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F4F29-61B3-4972-AD82-2FEEC40D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1E641-FF29-4E6E-9B16-4CC05134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3437B-1B5A-4661-A0C5-8CF6AD14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BB4F6-4B46-4FB9-99EC-C4600899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2F66A-8C5E-495D-9CF7-D70E10D0E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05D2B-C3A2-4BBC-AAFE-ACE61FD0C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AD658-BF49-4B69-86FE-FD1AE7C6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87AF4-90B6-4BCF-8357-9C69E484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0D5D9-C196-4EFA-9A43-593D1BD0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D8CF-0892-419B-9451-2838D844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F6549-FC9D-4302-B792-8F8B3335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AEA46-2D44-4375-B0CC-7B4CB14C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A0EEA-E281-4796-8097-311E7253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73CF6-9AB0-4B4F-AB04-A99312A0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A8B59-8BDE-4B78-9C66-5B9302EA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37F7C-F5B8-45EE-858A-341FFF13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29EA4-0C1D-42A2-A37F-39CB87E6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CB23D-3ED8-4E9D-BB61-F95F13C9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F837A-EB43-4D5E-AA08-C5BBD0DA7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EBE94-4CD8-47CC-84E0-02DC7A2F6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7D14-8D67-4E50-813F-D721BC3A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0747E-85A7-40FC-BE4B-6D18647F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5B9ED-AE7D-4E71-928F-A1FD84EE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57743-4178-40F0-BEAD-4096B1A3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64E9A-3181-4CE2-B24B-128F29A4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DFC14-F05F-417A-A346-3BF66E11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A2B08-4687-49C4-91A3-A6785A1D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C3E0F-DC17-4A07-8E52-365A979B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96B4E-2C64-41D4-8471-7CE10396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3C00E-A3E5-4ED0-AF83-C0B96CDA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F8A55-EEDE-4B30-8867-4BAA5A92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8467-CE3E-4056-867B-DAA4F6AF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AE1F6-77B6-44FC-AD27-0D3D8721E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E4820-BDE3-4278-88B4-5756BC80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3A01C-6F44-4BF6-80B6-4EF0FA5E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E411E-BA6D-4EE4-8FDD-724A4442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3FA56-194A-4578-8B38-4D52449A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20151-ED8D-48C4-B686-7A160AFC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25B40-78B0-41DF-81A7-7889D94A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2C009-3BC4-4172-B7C4-8C1B3BDF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3742E-8143-485E-935F-CC656466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D618D-B95C-4C74-9DAF-C7B96E43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1584-AD23-474B-84F3-D264CBB2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0A0DE-9F02-4656-BDE2-06F9187C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FC33F-D83F-4245-A173-D49712619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CB0F8-9923-410D-9067-D518904D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30696-6083-49DA-BEAC-B1681A6F4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512FB-1566-45D2-8336-91FBF28B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370F6-C54E-452D-A4AC-A8C077AD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6AD74-639D-4D11-A57E-72A9BB03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182DC-4703-4B4F-AE9A-A723A2E4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3D661-36C0-4411-B4F4-8403A3BB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34D1F-ACEF-44B1-B1F8-85FA3713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BAF8-C21C-4188-A527-52A36A04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D15F8-B85B-469D-B93C-18148CD5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BACB9-CA71-4F67-A4A0-0215BA78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3ADE0-FC6C-4E38-A84C-046E2013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7702C-412D-47F3-9D0F-29F929D0C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1FC7E-E64C-4393-BCA7-2301E6587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A26D9-E8A6-49C3-95D8-CCF7CB6A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7CC3B-FEC6-4A70-98DF-64334806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303D0-0CAD-4F85-B415-96E09434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91D5C-58C1-40E4-A342-AB5EAEFB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1D8B9-EA3B-4097-A3EF-F72DEC9F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DCB7-2898-44E0-992F-3F527A6E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97EE3-D83D-4605-AF5A-A4E1D73E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6C7E0-B749-4D2A-B7BC-0A1CB105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4DFDF-9845-4A0E-9E2E-517ADE9F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218D3-E517-4F80-A0A4-41D0063B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BCC25-93A3-458C-AD6B-892C0C76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78104-76F0-4010-9221-6E927D44F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0DA8C-B33B-4ABA-A5ED-CFFC6E88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9875F-2B1B-4B24-AD69-FD99BBA9F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8AF19-B5E4-41E9-8239-18CAF9A3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180A1-E4E3-4E53-81A9-33EF7B54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4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BY : FIRAS AL ASSADI / AL MANSOUR UNIVERSITY COLLE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641D-6DA1-4491-B0A0-C200552D8E4D}" type="slidenum">
              <a:rPr b="0" lang="ar-SA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435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7" name="Freeform 8"/>
          <p:cNvSpPr/>
          <p:nvPr/>
        </p:nvSpPr>
        <p:spPr>
          <a:xfrm>
            <a:off x="1808280" y="6148440"/>
            <a:ext cx="7337160" cy="711000"/>
          </a:xfrm>
          <a:prstGeom prst="pie">
            <a:avLst/>
          </a:prstGeom>
          <a:gradFill rotWithShape="0">
            <a:gsLst>
              <a:gs pos="0">
                <a:srgbClr val="4f81bd"/>
              </a:gs>
              <a:gs pos="100000">
                <a:srgbClr val="4f81bd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Freeform 9"/>
          <p:cNvSpPr/>
          <p:nvPr/>
        </p:nvSpPr>
        <p:spPr>
          <a:xfrm>
            <a:off x="0" y="5457960"/>
            <a:ext cx="7238880" cy="1400040"/>
          </a:xfrm>
          <a:prstGeom prst="pie">
            <a:avLst/>
          </a:pr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Freeform 10"/>
          <p:cNvSpPr/>
          <p:nvPr/>
        </p:nvSpPr>
        <p:spPr>
          <a:xfrm>
            <a:off x="0" y="5411880"/>
            <a:ext cx="760572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>
            <a:off x="1681200" y="6116760"/>
            <a:ext cx="7464240" cy="74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4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BY : FIRAS AL ASSADI / AL MANSOUR UNIVERSITY COLLE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29B4-2C98-4E37-A029-6DB6100D9589}" type="slidenum">
              <a:rPr b="0" lang="ar-SA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483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5" name="Freeform 8"/>
          <p:cNvSpPr/>
          <p:nvPr/>
        </p:nvSpPr>
        <p:spPr>
          <a:xfrm>
            <a:off x="0" y="5457960"/>
            <a:ext cx="7238880" cy="1400040"/>
          </a:xfrm>
          <a:prstGeom prst="pie">
            <a:avLst/>
          </a:prstGeom>
          <a:gradFill rotWithShape="0">
            <a:gsLst>
              <a:gs pos="0">
                <a:srgbClr val="4f81bd"/>
              </a:gs>
              <a:gs pos="100000">
                <a:srgbClr val="4f81bd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Freeform 9"/>
          <p:cNvSpPr/>
          <p:nvPr/>
        </p:nvSpPr>
        <p:spPr>
          <a:xfrm>
            <a:off x="1808280" y="6148440"/>
            <a:ext cx="7337160" cy="711000"/>
          </a:xfrm>
          <a:prstGeom prst="pie">
            <a:avLst/>
          </a:pr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Freeform 10"/>
          <p:cNvSpPr/>
          <p:nvPr/>
        </p:nvSpPr>
        <p:spPr>
          <a:xfrm>
            <a:off x="0" y="5411880"/>
            <a:ext cx="760572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Freeform 11"/>
          <p:cNvSpPr/>
          <p:nvPr/>
        </p:nvSpPr>
        <p:spPr>
          <a:xfrm>
            <a:off x="1681200" y="6116760"/>
            <a:ext cx="7464240" cy="74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4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BY : FIRAS AL ASSADI / AL MANSOUR UNIVERSITY COLLE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4B65-270E-419D-BCAB-6C1A4A2164BB}" type="slidenum">
              <a:rPr b="0" lang="ar-SA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531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Freeform 8"/>
          <p:cNvSpPr/>
          <p:nvPr/>
        </p:nvSpPr>
        <p:spPr>
          <a:xfrm>
            <a:off x="0" y="5457960"/>
            <a:ext cx="7238880" cy="1400040"/>
          </a:xfrm>
          <a:prstGeom prst="pie">
            <a:avLst/>
          </a:prstGeom>
          <a:gradFill rotWithShape="0">
            <a:gsLst>
              <a:gs pos="0">
                <a:srgbClr val="4f81bd"/>
              </a:gs>
              <a:gs pos="100000">
                <a:srgbClr val="4f81bd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Freeform 9"/>
          <p:cNvSpPr/>
          <p:nvPr/>
        </p:nvSpPr>
        <p:spPr>
          <a:xfrm>
            <a:off x="1808280" y="6148440"/>
            <a:ext cx="7337160" cy="711000"/>
          </a:xfrm>
          <a:prstGeom prst="pie">
            <a:avLst/>
          </a:pr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Freeform 10"/>
          <p:cNvSpPr/>
          <p:nvPr/>
        </p:nvSpPr>
        <p:spPr>
          <a:xfrm>
            <a:off x="0" y="5411880"/>
            <a:ext cx="760572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Freeform 11"/>
          <p:cNvSpPr/>
          <p:nvPr/>
        </p:nvSpPr>
        <p:spPr>
          <a:xfrm>
            <a:off x="1681200" y="6116760"/>
            <a:ext cx="7464240" cy="74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4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BY : FIRAS AL ASSADI / AL MANSOUR UNIVERSITY COLLE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04F6-CE2C-4A73-8AD2-F40AA558D16D}" type="slidenum">
              <a:rPr b="0" lang="ar-SA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8"/>
          <p:cNvSpPr/>
          <p:nvPr/>
        </p:nvSpPr>
        <p:spPr>
          <a:xfrm>
            <a:off x="0" y="5292720"/>
            <a:ext cx="9144000" cy="1442880"/>
          </a:xfrm>
          <a:prstGeom prst="pie">
            <a:avLst/>
          </a:prstGeom>
          <a:gradFill rotWithShape="0">
            <a:gsLst>
              <a:gs pos="0">
                <a:srgbClr val="4f81bd"/>
              </a:gs>
              <a:gs pos="100000">
                <a:srgbClr val="4f81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Freeform 9"/>
          <p:cNvGrpSpPr/>
          <p:nvPr/>
        </p:nvGrpSpPr>
        <p:grpSpPr>
          <a:xfrm>
            <a:off x="-6480" y="5284800"/>
            <a:ext cx="9156960" cy="1457280"/>
            <a:chOff x="-6480" y="5284800"/>
            <a:chExt cx="9156960" cy="1457280"/>
          </a:xfrm>
        </p:grpSpPr>
        <p:pic>
          <p:nvPicPr>
            <p:cNvPr id="49" name="Freeform 9" descr=""/>
            <p:cNvPicPr/>
            <p:nvPr/>
          </p:nvPicPr>
          <p:blipFill>
            <a:blip r:embed="rId4"/>
            <a:stretch/>
          </p:blipFill>
          <p:spPr>
            <a:xfrm>
              <a:off x="-6480" y="5284800"/>
              <a:ext cx="915696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Freeform 10"/>
          <p:cNvSpPr/>
          <p:nvPr/>
        </p:nvSpPr>
        <p:spPr>
          <a:xfrm>
            <a:off x="0" y="5546880"/>
            <a:ext cx="9147240" cy="1312560"/>
          </a:xfrm>
          <a:prstGeom prst="pie">
            <a:avLst/>
          </a:prstGeom>
          <a:gradFill rotWithShape="0">
            <a:gsLst>
              <a:gs pos="0">
                <a:srgbClr val="d7e4bd"/>
              </a:gs>
              <a:gs pos="100000">
                <a:srgbClr val="c3d6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reeform 12"/>
          <p:cNvSpPr/>
          <p:nvPr/>
        </p:nvSpPr>
        <p:spPr>
          <a:xfrm>
            <a:off x="0" y="5502240"/>
            <a:ext cx="9144000" cy="127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4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BY : FIRAS AL ASSADI / AL MANSOUR UNIVERSITY COLLE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AE80-34EC-41DF-B4FB-EA9E61472351}" type="slidenum">
              <a:rPr b="0" lang="ar-SA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96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Freeform 8"/>
          <p:cNvSpPr/>
          <p:nvPr/>
        </p:nvSpPr>
        <p:spPr>
          <a:xfrm>
            <a:off x="0" y="5457960"/>
            <a:ext cx="7238880" cy="1400040"/>
          </a:xfrm>
          <a:prstGeom prst="pie">
            <a:avLst/>
          </a:prstGeom>
          <a:gradFill rotWithShape="0">
            <a:gsLst>
              <a:gs pos="0">
                <a:srgbClr val="4f81bd"/>
              </a:gs>
              <a:gs pos="100000">
                <a:srgbClr val="4f81bd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Freeform 9"/>
          <p:cNvSpPr/>
          <p:nvPr/>
        </p:nvSpPr>
        <p:spPr>
          <a:xfrm>
            <a:off x="1808280" y="6148440"/>
            <a:ext cx="7337160" cy="711000"/>
          </a:xfrm>
          <a:prstGeom prst="pie">
            <a:avLst/>
          </a:pr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Freeform 10"/>
          <p:cNvSpPr/>
          <p:nvPr/>
        </p:nvSpPr>
        <p:spPr>
          <a:xfrm>
            <a:off x="0" y="5411880"/>
            <a:ext cx="760572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reeform 11"/>
          <p:cNvSpPr/>
          <p:nvPr/>
        </p:nvSpPr>
        <p:spPr>
          <a:xfrm>
            <a:off x="1681200" y="6116760"/>
            <a:ext cx="7464240" cy="74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4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BY : FIRAS AL ASSADI / AL MANSOUR UNIVERSITY COLLE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80F1-7518-4788-A65A-93153D73488E}" type="slidenum">
              <a:rPr b="0" lang="ar-SA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4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Freeform 8"/>
          <p:cNvSpPr/>
          <p:nvPr/>
        </p:nvSpPr>
        <p:spPr>
          <a:xfrm>
            <a:off x="0" y="5546880"/>
            <a:ext cx="9147240" cy="1312560"/>
          </a:xfrm>
          <a:prstGeom prst="pie">
            <a:avLst/>
          </a:prstGeom>
          <a:gradFill rotWithShape="0">
            <a:gsLst>
              <a:gs pos="0">
                <a:srgbClr val="b9cde5"/>
              </a:gs>
              <a:gs pos="100000">
                <a:srgbClr val="95b3d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Freeform 9"/>
          <p:cNvSpPr/>
          <p:nvPr/>
        </p:nvSpPr>
        <p:spPr>
          <a:xfrm>
            <a:off x="0" y="5292720"/>
            <a:ext cx="9144000" cy="1442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Freeform 10"/>
          <p:cNvGrpSpPr/>
          <p:nvPr/>
        </p:nvGrpSpPr>
        <p:grpSpPr>
          <a:xfrm>
            <a:off x="-6480" y="5284800"/>
            <a:ext cx="9156960" cy="1457280"/>
            <a:chOff x="-6480" y="5284800"/>
            <a:chExt cx="9156960" cy="1457280"/>
          </a:xfrm>
        </p:grpSpPr>
        <p:pic>
          <p:nvPicPr>
            <p:cNvPr id="149" name="Freeform 10" descr=""/>
            <p:cNvPicPr/>
            <p:nvPr/>
          </p:nvPicPr>
          <p:blipFill>
            <a:blip r:embed="rId4"/>
            <a:stretch/>
          </p:blipFill>
          <p:spPr>
            <a:xfrm>
              <a:off x="-6480" y="5284800"/>
              <a:ext cx="915696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Rectangle 11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12"/>
          <p:cNvSpPr/>
          <p:nvPr/>
        </p:nvSpPr>
        <p:spPr>
          <a:xfrm>
            <a:off x="0" y="5502240"/>
            <a:ext cx="9144000" cy="127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4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BY : FIRAS AL ASSADI / AL MANSOUR UNIVERSITY COLLE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FBC7-885C-48D4-8B1B-F90390204622}" type="slidenum">
              <a:rPr b="0" lang="ar-SA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Freeform 8"/>
          <p:cNvSpPr/>
          <p:nvPr/>
        </p:nvSpPr>
        <p:spPr>
          <a:xfrm>
            <a:off x="1808280" y="6148440"/>
            <a:ext cx="7337160" cy="711000"/>
          </a:xfrm>
          <a:prstGeom prst="pie">
            <a:avLst/>
          </a:pr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Freeform 9"/>
          <p:cNvSpPr/>
          <p:nvPr/>
        </p:nvSpPr>
        <p:spPr>
          <a:xfrm>
            <a:off x="0" y="5457960"/>
            <a:ext cx="7238880" cy="1400040"/>
          </a:xfrm>
          <a:prstGeom prst="pie">
            <a:avLst/>
          </a:prstGeom>
          <a:gradFill rotWithShape="0">
            <a:gsLst>
              <a:gs pos="0">
                <a:srgbClr val="4f81bd"/>
              </a:gs>
              <a:gs pos="100000">
                <a:srgbClr val="4f81bd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Freeform 10"/>
          <p:cNvSpPr/>
          <p:nvPr/>
        </p:nvSpPr>
        <p:spPr>
          <a:xfrm>
            <a:off x="0" y="5411880"/>
            <a:ext cx="760572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Freeform 11"/>
          <p:cNvSpPr/>
          <p:nvPr/>
        </p:nvSpPr>
        <p:spPr>
          <a:xfrm>
            <a:off x="1681200" y="6116760"/>
            <a:ext cx="7464240" cy="74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4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BY : FIRAS AL ASSADI / AL MANSOUR UNIVERSITY COLLE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F501-4120-4F27-9F21-64A7FDA508C8}" type="slidenum">
              <a:rPr b="0" lang="ar-SA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43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Freeform 8"/>
          <p:cNvSpPr/>
          <p:nvPr/>
        </p:nvSpPr>
        <p:spPr>
          <a:xfrm>
            <a:off x="1808280" y="6148440"/>
            <a:ext cx="7337160" cy="711000"/>
          </a:xfrm>
          <a:prstGeom prst="pie">
            <a:avLst/>
          </a:prstGeom>
          <a:gradFill rotWithShape="0">
            <a:gsLst>
              <a:gs pos="0">
                <a:srgbClr val="4f81bd"/>
              </a:gs>
              <a:gs pos="100000">
                <a:srgbClr val="4f81bd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Freeform 9"/>
          <p:cNvSpPr/>
          <p:nvPr/>
        </p:nvSpPr>
        <p:spPr>
          <a:xfrm>
            <a:off x="0" y="5457960"/>
            <a:ext cx="7238880" cy="1400040"/>
          </a:xfrm>
          <a:prstGeom prst="pie">
            <a:avLst/>
          </a:pr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Freeform 10"/>
          <p:cNvSpPr/>
          <p:nvPr/>
        </p:nvSpPr>
        <p:spPr>
          <a:xfrm>
            <a:off x="0" y="5411880"/>
            <a:ext cx="760572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Freeform 11"/>
          <p:cNvSpPr/>
          <p:nvPr/>
        </p:nvSpPr>
        <p:spPr>
          <a:xfrm>
            <a:off x="1681200" y="6116760"/>
            <a:ext cx="7464240" cy="74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4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BY : FIRAS AL ASSADI / AL MANSOUR UNIVERSITY COLLE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CCE4-864C-4125-BD8F-145E5F11FF24}" type="slidenum">
              <a:rPr b="0" lang="ar-SA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91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Freeform 8"/>
          <p:cNvSpPr/>
          <p:nvPr/>
        </p:nvSpPr>
        <p:spPr>
          <a:xfrm>
            <a:off x="0" y="5010120"/>
            <a:ext cx="7439040" cy="157176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Freeform 9"/>
          <p:cNvSpPr/>
          <p:nvPr/>
        </p:nvSpPr>
        <p:spPr>
          <a:xfrm>
            <a:off x="0" y="5730840"/>
            <a:ext cx="9147240" cy="1127160"/>
          </a:xfrm>
          <a:prstGeom prst="pie">
            <a:avLst/>
          </a:prstGeom>
          <a:gradFill rotWithShape="0">
            <a:gsLst>
              <a:gs pos="0">
                <a:srgbClr val="4f81bd"/>
              </a:gs>
              <a:gs pos="100000">
                <a:srgbClr val="4f81bd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Freeform 10"/>
          <p:cNvSpPr/>
          <p:nvPr/>
        </p:nvSpPr>
        <p:spPr>
          <a:xfrm>
            <a:off x="0" y="4973760"/>
            <a:ext cx="767556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Freeform 11"/>
          <p:cNvSpPr/>
          <p:nvPr/>
        </p:nvSpPr>
        <p:spPr>
          <a:xfrm>
            <a:off x="-3240" y="5695920"/>
            <a:ext cx="9147240" cy="9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9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4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0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BY : FIRAS AL ASSADI / AL MANSOUR UNIVERSITY COLLE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1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BC64-0CCA-4444-8E77-7843B6E584C0}" type="slidenum">
              <a:rPr b="0" lang="ar-SA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39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Freeform 8"/>
          <p:cNvSpPr/>
          <p:nvPr/>
        </p:nvSpPr>
        <p:spPr>
          <a:xfrm>
            <a:off x="0" y="5730840"/>
            <a:ext cx="9147240" cy="1127160"/>
          </a:xfrm>
          <a:prstGeom prst="pie">
            <a:avLst/>
          </a:pr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Freeform 9"/>
          <p:cNvSpPr/>
          <p:nvPr/>
        </p:nvSpPr>
        <p:spPr>
          <a:xfrm>
            <a:off x="0" y="5381640"/>
            <a:ext cx="3286080" cy="120816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Freeform 10"/>
          <p:cNvSpPr/>
          <p:nvPr/>
        </p:nvSpPr>
        <p:spPr>
          <a:xfrm>
            <a:off x="-3240" y="5695920"/>
            <a:ext cx="9147240" cy="9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Freeform 11"/>
          <p:cNvSpPr/>
          <p:nvPr/>
        </p:nvSpPr>
        <p:spPr>
          <a:xfrm>
            <a:off x="0" y="5346720"/>
            <a:ext cx="3425760" cy="944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4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BY : FIRAS AL ASSADI / AL MANSOUR UNIVERSITY COLLE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34B5-627D-4203-95B8-9167189008CB}" type="slidenum">
              <a:rPr b="0" lang="ar-SA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87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Freeform 8"/>
          <p:cNvSpPr/>
          <p:nvPr/>
        </p:nvSpPr>
        <p:spPr>
          <a:xfrm>
            <a:off x="0" y="5010120"/>
            <a:ext cx="7439040" cy="157176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Freeform 9"/>
          <p:cNvSpPr/>
          <p:nvPr/>
        </p:nvSpPr>
        <p:spPr>
          <a:xfrm>
            <a:off x="0" y="5730840"/>
            <a:ext cx="9147240" cy="1127160"/>
          </a:xfrm>
          <a:prstGeom prst="pie">
            <a:avLst/>
          </a:prstGeom>
          <a:gradFill rotWithShape="0">
            <a:gsLst>
              <a:gs pos="0">
                <a:srgbClr val="4f81bd"/>
              </a:gs>
              <a:gs pos="100000">
                <a:srgbClr val="4f81bd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Freeform 10"/>
          <p:cNvSpPr/>
          <p:nvPr/>
        </p:nvSpPr>
        <p:spPr>
          <a:xfrm>
            <a:off x="0" y="4973760"/>
            <a:ext cx="767556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Freeform 11"/>
          <p:cNvSpPr/>
          <p:nvPr/>
        </p:nvSpPr>
        <p:spPr>
          <a:xfrm>
            <a:off x="-3240" y="5695920"/>
            <a:ext cx="9147240" cy="9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4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BY : FIRAS AL ASSADI / AL MANSOUR UNIVERSITY COLLE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0547-C5AE-4920-B5EE-1B64748B5DB5}" type="slidenum">
              <a:rPr b="0" lang="ar-SA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عنصر نائب للتاريخ 3"/>
          <p:cNvSpPr/>
          <p:nvPr/>
        </p:nvSpPr>
        <p:spPr>
          <a:xfrm>
            <a:off x="640080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Gill Sans MT"/>
              </a:rPr>
              <a:t>4 OCTOBER 2018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عنصر نائب للتذييل 4"/>
          <p:cNvSpPr/>
          <p:nvPr/>
        </p:nvSpPr>
        <p:spPr>
          <a:xfrm>
            <a:off x="2286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Arial"/>
              </a:rPr>
              <a:t>BY : FIRAS AL ASSADI / AL MANSOUR UNIVERSITY COLLEGE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عنصر نائب لرقم الشريحة 5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C272-6496-4574-A1E3-22CD5EF9F19C}" type="slidenum">
              <a:rPr b="1" lang="en-US" sz="11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ill Sans MT"/>
              </a:rPr>
              <a:t>Al Mansour University Colleg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ill Sans MT"/>
              </a:rPr>
              <a:t>Computer Technologies Engineering Departmen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ill Sans MT"/>
              </a:rPr>
              <a:t>Second Clas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ill Sans MT"/>
              </a:rPr>
              <a:t>Year 2018 - 2019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struments and Measurements Lectures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: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Book Antiqua"/>
                <a:ea typeface="Tahoma"/>
              </a:rPr>
              <a:t>Firas Al Assadi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Construction</a:t>
            </a:r>
            <a:r>
              <a:rPr b="1" lang="ar-EG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PMMC Instrumen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30" name="Picture 6" descr="http://static.bitlanders.com/users/galleries/302441/302441_gallery_53f8cdb042b04_jpg_fa_rszd.jpg"/>
          <p:cNvPicPr/>
          <p:nvPr/>
        </p:nvPicPr>
        <p:blipFill>
          <a:blip r:embed="rId1"/>
          <a:stretch/>
        </p:blipFill>
        <p:spPr>
          <a:xfrm>
            <a:off x="3998880" y="1295280"/>
            <a:ext cx="5145120" cy="5257800"/>
          </a:xfrm>
          <a:prstGeom prst="rect">
            <a:avLst/>
          </a:prstGeom>
          <a:ln w="0">
            <a:noFill/>
          </a:ln>
        </p:spPr>
      </p:pic>
      <p:sp>
        <p:nvSpPr>
          <p:cNvPr id="631" name="Rectangle 4"/>
          <p:cNvSpPr/>
          <p:nvPr/>
        </p:nvSpPr>
        <p:spPr>
          <a:xfrm>
            <a:off x="0" y="1447920"/>
            <a:ext cx="3962520" cy="46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A permanent magnet with two soft-iron pole sho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A cylindrical soft-iron core is positioned between the sho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عنصر نائب للتاريخ 4"/>
          <p:cNvSpPr/>
          <p:nvPr/>
        </p:nvSpPr>
        <p:spPr>
          <a:xfrm>
            <a:off x="640080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Gill Sans MT"/>
              </a:rPr>
              <a:t>4 OCTOBER 2018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عنصر نائب لرقم الشريحة 6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4551-D302-4655-B327-7D80B7215BFA}" type="slidenum">
              <a:rPr b="1" lang="ar-SA" sz="11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عنصر نائب للتذييل 7"/>
          <p:cNvSpPr/>
          <p:nvPr/>
        </p:nvSpPr>
        <p:spPr>
          <a:xfrm>
            <a:off x="2286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Arial"/>
              </a:rPr>
              <a:t>BY : FIRAS AL ASSADI / AL MANSOUR UNIVERSITY COLLEGE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Construction</a:t>
            </a:r>
            <a:r>
              <a:rPr b="1" lang="ar-EG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PMMC Instrumen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36" name="Picture 6" descr="http://static.bitlanders.com/users/galleries/302441/302441_gallery_53f8cdb042b04_jpg_fa_rszd.jpg"/>
          <p:cNvPicPr/>
          <p:nvPr/>
        </p:nvPicPr>
        <p:blipFill>
          <a:blip r:embed="rId1"/>
          <a:stretch/>
        </p:blipFill>
        <p:spPr>
          <a:xfrm>
            <a:off x="3998880" y="1295280"/>
            <a:ext cx="5145120" cy="525780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4"/>
          <p:cNvSpPr/>
          <p:nvPr/>
        </p:nvSpPr>
        <p:spPr>
          <a:xfrm>
            <a:off x="0" y="1447920"/>
            <a:ext cx="434340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of the two controlling spiral springs is shown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end of this spring is fastened to the pivoted coil, and the other end is connected to an adjustable zero-position control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عنصر نائب للتاريخ 6"/>
          <p:cNvSpPr/>
          <p:nvPr/>
        </p:nvSpPr>
        <p:spPr>
          <a:xfrm>
            <a:off x="640080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Gill Sans MT"/>
              </a:rPr>
              <a:t>4 OCTOBER 2018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عنصر نائب لرقم الشريحة 7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6B11-C7F1-4C3F-9F0D-6D24A02E22C8}" type="slidenum">
              <a:rPr b="1" lang="ar-SA" sz="11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عنصر نائب للتذييل 8"/>
          <p:cNvSpPr/>
          <p:nvPr/>
        </p:nvSpPr>
        <p:spPr>
          <a:xfrm>
            <a:off x="2286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Arial"/>
              </a:rPr>
              <a:t>BY : FIRAS AL ASSADI / AL MANSOUR UNIVERSITY COLLEGE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Construction</a:t>
            </a:r>
            <a:r>
              <a:rPr b="1" lang="ar-EG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PMMC Instrumen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42" name="Picture 6" descr="http://static.bitlanders.com/users/galleries/302441/302441_gallery_53f8cdb042b04_jpg_fa_rszd.jpg"/>
          <p:cNvPicPr/>
          <p:nvPr/>
        </p:nvPicPr>
        <p:blipFill>
          <a:blip r:embed="rId1"/>
          <a:stretch/>
        </p:blipFill>
        <p:spPr>
          <a:xfrm>
            <a:off x="3998880" y="1295280"/>
            <a:ext cx="5145120" cy="525780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1"/>
          <p:cNvSpPr/>
          <p:nvPr/>
        </p:nvSpPr>
        <p:spPr>
          <a:xfrm>
            <a:off x="0" y="1828800"/>
            <a:ext cx="4191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current in the coil must flow in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one directio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cause the pointer to move from the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zero posi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over the scale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عنصر نائب للتاريخ 4"/>
          <p:cNvSpPr/>
          <p:nvPr/>
        </p:nvSpPr>
        <p:spPr>
          <a:xfrm>
            <a:off x="640080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Gill Sans MT"/>
              </a:rPr>
              <a:t>4 OCTOBER 2018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عنصر نائب لرقم الشريحة 6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0A33-5A79-416E-8138-7D8895071947}" type="slidenum">
              <a:rPr b="1" lang="ar-SA" sz="11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عنصر نائب للتذييل 7"/>
          <p:cNvSpPr/>
          <p:nvPr/>
        </p:nvSpPr>
        <p:spPr>
          <a:xfrm>
            <a:off x="2286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Arial"/>
              </a:rPr>
              <a:t>BY : FIRAS AL ASSADI / AL MANSOUR UNIVERSITY COLLEGE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Construction</a:t>
            </a:r>
            <a:r>
              <a:rPr b="1" lang="ar-EG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PMMC Instrumen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48" name="Picture 6" descr="http://static.bitlanders.com/users/galleries/302441/302441_gallery_53f8cdb042b04_jpg_fa_rszd.jpg"/>
          <p:cNvPicPr/>
          <p:nvPr/>
        </p:nvPicPr>
        <p:blipFill>
          <a:blip r:embed="rId1"/>
          <a:stretch/>
        </p:blipFill>
        <p:spPr>
          <a:xfrm>
            <a:off x="3998880" y="1295280"/>
            <a:ext cx="5145120" cy="5257800"/>
          </a:xfrm>
          <a:prstGeom prst="rect">
            <a:avLst/>
          </a:prstGeom>
          <a:ln w="0">
            <a:noFill/>
          </a:ln>
        </p:spPr>
      </p:pic>
      <p:sp>
        <p:nvSpPr>
          <p:cNvPr id="649" name="Rectangle 1"/>
          <p:cNvSpPr/>
          <p:nvPr/>
        </p:nvSpPr>
        <p:spPr>
          <a:xfrm>
            <a:off x="0" y="1828800"/>
            <a:ext cx="4191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terminals (+) and (–)  indicate 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the correct polarity for connectio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, and the instrument is said to be polarized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عنصر نائب للتاريخ 4"/>
          <p:cNvSpPr/>
          <p:nvPr/>
        </p:nvSpPr>
        <p:spPr>
          <a:xfrm>
            <a:off x="640080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Gill Sans MT"/>
              </a:rPr>
              <a:t>4 OCTOBER 2018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عنصر نائب لرقم الشريحة 6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2C72-AF52-4B04-A6BC-B9DDE8CAA97B}" type="slidenum">
              <a:rPr b="1" lang="ar-SA" sz="11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عنصر نائب للتذييل 7"/>
          <p:cNvSpPr/>
          <p:nvPr/>
        </p:nvSpPr>
        <p:spPr>
          <a:xfrm>
            <a:off x="2286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Arial"/>
              </a:rPr>
              <a:t>BY : FIRAS AL ASSADI / AL MANSOUR UNIVERSITY COLLEGE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Construction</a:t>
            </a:r>
            <a:r>
              <a:rPr b="1" lang="ar-EG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PMMC Instrumen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54" name="Picture 6" descr="http://static.bitlanders.com/users/galleries/302441/302441_gallery_53f8cdb042b04_jpg_fa_rszd.jpg"/>
          <p:cNvPicPr/>
          <p:nvPr/>
        </p:nvPicPr>
        <p:blipFill>
          <a:blip r:embed="rId1"/>
          <a:stretch/>
        </p:blipFill>
        <p:spPr>
          <a:xfrm>
            <a:off x="3998880" y="1295280"/>
            <a:ext cx="5145120" cy="5257800"/>
          </a:xfrm>
          <a:prstGeom prst="rect">
            <a:avLst/>
          </a:prstGeom>
          <a:ln w="0">
            <a:noFill/>
          </a:ln>
        </p:spPr>
      </p:pic>
      <p:sp>
        <p:nvSpPr>
          <p:cNvPr id="655" name="Rectangle 1"/>
          <p:cNvSpPr/>
          <p:nvPr/>
        </p:nvSpPr>
        <p:spPr>
          <a:xfrm>
            <a:off x="0" y="1828800"/>
            <a:ext cx="4038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1" lang="en-US" sz="3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not be used directly to measure 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lternating current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ithout rectifiers, it is purely a dc instrument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عنصر نائب للتاريخ 4"/>
          <p:cNvSpPr/>
          <p:nvPr/>
        </p:nvSpPr>
        <p:spPr>
          <a:xfrm>
            <a:off x="640080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Gill Sans MT"/>
              </a:rPr>
              <a:t>4 OCTOBER 2018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عنصر نائب لرقم الشريحة 6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A10A-3D45-4AE9-B78F-222582B1CB11}" type="slidenum">
              <a:rPr b="1" lang="ar-SA" sz="11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عنصر نائب للتذييل 7"/>
          <p:cNvSpPr/>
          <p:nvPr/>
        </p:nvSpPr>
        <p:spPr>
          <a:xfrm>
            <a:off x="2286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Arial"/>
              </a:rPr>
              <a:t>BY : FIRAS AL ASSADI / AL MANSOUR UNIVERSITY COLLEGE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4920" y="1728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Permanent Magnet Moving Coil Instrument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5239800" y="990360"/>
            <a:ext cx="3218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mirror is placed below the pointer to get the accurate reading by removing the parallax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61" name="Picture 2" descr=""/>
          <p:cNvPicPr/>
          <p:nvPr/>
        </p:nvPicPr>
        <p:blipFill>
          <a:blip r:embed="rId1"/>
          <a:srcRect l="8081" t="0" r="11546" b="15328"/>
          <a:stretch/>
        </p:blipFill>
        <p:spPr>
          <a:xfrm>
            <a:off x="5408640" y="2678040"/>
            <a:ext cx="3735360" cy="38750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2" descr="C:\Users\acer\Desktop\pmmc-instrument[1].gif"/>
          <p:cNvPicPr/>
          <p:nvPr/>
        </p:nvPicPr>
        <p:blipFill>
          <a:blip r:embed="rId2"/>
          <a:stretch/>
        </p:blipFill>
        <p:spPr>
          <a:xfrm>
            <a:off x="-17640" y="1525680"/>
            <a:ext cx="5257800" cy="4876560"/>
          </a:xfrm>
          <a:prstGeom prst="rect">
            <a:avLst/>
          </a:prstGeom>
          <a:ln w="0">
            <a:noFill/>
          </a:ln>
        </p:spPr>
      </p:pic>
      <p:sp>
        <p:nvSpPr>
          <p:cNvPr id="663" name="عنصر نائب للتاريخ 5"/>
          <p:cNvSpPr/>
          <p:nvPr/>
        </p:nvSpPr>
        <p:spPr>
          <a:xfrm>
            <a:off x="640080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Gill Sans MT"/>
              </a:rPr>
              <a:t>4 OCTOBER 2018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عنصر نائب لرقم الشريحة 6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83BF-677E-4633-9E8B-EC347B154C60}" type="slidenum">
              <a:rPr b="1" lang="ar-SA" sz="11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عنصر نائب للتذييل 7"/>
          <p:cNvSpPr/>
          <p:nvPr/>
        </p:nvSpPr>
        <p:spPr>
          <a:xfrm>
            <a:off x="2286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Arial"/>
              </a:rPr>
              <a:t>BY : FIRAS AL ASSADI / AL MANSOUR UNIVERSITY COLLEGE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ill Sans MT"/>
              </a:rPr>
              <a:t>Advantages Of  The PMMC Instrument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Linear scale .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Simple and cheap.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Can be constructed with very high sensitivity (specially if </a:t>
            </a:r>
            <a:r>
              <a:rPr b="1" lang="en-US" sz="3600" spc="-1" strike="noStrike">
                <a:solidFill>
                  <a:srgbClr val="ff0000"/>
                </a:solidFill>
                <a:latin typeface="Gill Sans MT"/>
              </a:rPr>
              <a:t>taut band </a:t>
            </a: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suspension is used).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8" name="عنصر نائب للتاريخ 3"/>
          <p:cNvSpPr/>
          <p:nvPr/>
        </p:nvSpPr>
        <p:spPr>
          <a:xfrm>
            <a:off x="640080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Gill Sans MT"/>
              </a:rPr>
              <a:t>4 OCTOBER 2018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عنصر نائب لرقم الشريحة 4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96DB-AA60-4B49-AFA0-38C2CBAFE5B0}" type="slidenum">
              <a:rPr b="1" lang="ar-SA" sz="11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عنصر نائب للتذييل 5"/>
          <p:cNvSpPr/>
          <p:nvPr/>
        </p:nvSpPr>
        <p:spPr>
          <a:xfrm>
            <a:off x="2286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Arial"/>
              </a:rPr>
              <a:t>BY : FIRAS AL ASSADI / AL MANSOUR UNIVERSITY COLLEGE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ill Sans MT"/>
              </a:rPr>
              <a:t>Disadvantages Of  The PMMC Instrument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2282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6000"/>
          </a:bodyPr>
          <a:p>
            <a:pPr marL="329040" indent="-2620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Polarized 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29040" indent="-2620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9040" indent="-2620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External magnetic fields badly affect its operation. This can be avoided by using core magnet type PMMC construction</a:t>
            </a: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****</a:t>
            </a: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29040" indent="-262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9040" indent="-2620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Not very sensitive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(to have sensitive device the taut band suspension must be used: which is expensive).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9040" indent="-262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3" name="عنصر نائب للتاريخ 3"/>
          <p:cNvSpPr/>
          <p:nvPr/>
        </p:nvSpPr>
        <p:spPr>
          <a:xfrm>
            <a:off x="640080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Gill Sans MT"/>
              </a:rPr>
              <a:t>4 OCTOBER 2018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عنصر نائب لرقم الشريحة 4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9CD9-EC34-4997-9B4F-82B984E85DAF}" type="slidenum">
              <a:rPr b="1" lang="ar-SA" sz="11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عنصر نائب للتذييل 5"/>
          <p:cNvSpPr/>
          <p:nvPr/>
        </p:nvSpPr>
        <p:spPr>
          <a:xfrm>
            <a:off x="2286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Arial"/>
              </a:rPr>
              <a:t>BY : FIRAS AL ASSADI / AL MANSOUR UNIVERSITY COLLEGE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1640" y="1460160"/>
            <a:ext cx="388620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Gungsuh"/>
              <a:ea typeface="Gungsuh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990720" y="350532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ungsuh"/>
                <a:ea typeface="Gungsuh"/>
              </a:rPr>
              <a:t>Classical Electromechanical  Instrumen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  <a:p>
            <a:pPr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5" name="عنصر نائب للتاريخ 3"/>
          <p:cNvSpPr/>
          <p:nvPr/>
        </p:nvSpPr>
        <p:spPr>
          <a:xfrm>
            <a:off x="640080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Gill Sans MT"/>
              </a:rPr>
              <a:t>4 OCTOBER 2018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عنصر نائب لرقم الشريحة 4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74B6-F5E3-4A27-B24D-3E74CC31161D}" type="slidenum">
              <a:rPr b="1" lang="ar-SA" sz="11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عنصر نائب للتذييل 5"/>
          <p:cNvSpPr/>
          <p:nvPr/>
        </p:nvSpPr>
        <p:spPr>
          <a:xfrm>
            <a:off x="2286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Arial"/>
              </a:rPr>
              <a:t>BY : FIRAS AL ASSADI / AL MANSOUR UNIVERSITY COLLEGE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12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ill Sans MT"/>
              </a:rPr>
              <a:t>Deflection Instruments Fundamental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2286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They have a </a:t>
            </a:r>
            <a:r>
              <a:rPr b="1" lang="en-US" sz="3600" spc="-1" strike="noStrike">
                <a:solidFill>
                  <a:srgbClr val="ffc000"/>
                </a:solidFill>
                <a:latin typeface="Gill Sans MT"/>
              </a:rPr>
              <a:t>pointer deflects </a:t>
            </a: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over its scale to indicate the quantity to be measured. 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Gill Sans MT"/>
              </a:rPr>
              <a:t>Three forces </a:t>
            </a: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are operating inside the instrument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{Deflecting, Controlling, and Damping Forces}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0" name="عنصر نائب للتاريخ 3"/>
          <p:cNvSpPr/>
          <p:nvPr/>
        </p:nvSpPr>
        <p:spPr>
          <a:xfrm>
            <a:off x="640080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Gill Sans MT"/>
              </a:rPr>
              <a:t>4 OCTOBER 2018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عنصر نائب لرقم الشريحة 4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7E1C-6118-4082-8F03-E9954BC65481}" type="slidenum">
              <a:rPr b="1" lang="ar-SA" sz="11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عنصر نائب للتذييل 5"/>
          <p:cNvSpPr/>
          <p:nvPr/>
        </p:nvSpPr>
        <p:spPr>
          <a:xfrm>
            <a:off x="2286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Arial"/>
              </a:rPr>
              <a:t>BY : FIRAS AL ASSADI / AL MANSOUR UNIVERSITY COLLEGE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ill Sans MT"/>
              </a:rPr>
              <a:t>Deflection Instruments Fundamentals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-360" y="121896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8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Gill Sans MT"/>
              </a:rPr>
              <a:t>   </a:t>
            </a:r>
            <a:r>
              <a:rPr b="1" lang="en-US" sz="4000" spc="-1" strike="noStrike">
                <a:solidFill>
                  <a:srgbClr val="ffc000"/>
                </a:solidFill>
                <a:latin typeface="Gill Sans MT"/>
              </a:rPr>
              <a:t>Examples 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spcBef>
                <a:spcPts val="700"/>
              </a:spcBef>
              <a:buClr>
                <a:srgbClr val="4f81bd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ill Sans MT"/>
              </a:rPr>
              <a:t>Permanent Magnet Moving Coil (PMMC) instruments, Electro-dynamic instruments, Moving iron instruments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5" name="عنصر نائب للتاريخ 3"/>
          <p:cNvSpPr/>
          <p:nvPr/>
        </p:nvSpPr>
        <p:spPr>
          <a:xfrm>
            <a:off x="640080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Gill Sans MT"/>
              </a:rPr>
              <a:t>4 OCTOBER 2018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عنصر نائب لرقم الشريحة 4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0FF1-6255-4E7E-BE4F-EBEF27591C5B}" type="slidenum">
              <a:rPr b="1" lang="ar-SA" sz="11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عنصر نائب للتذييل 5"/>
          <p:cNvSpPr/>
          <p:nvPr/>
        </p:nvSpPr>
        <p:spPr>
          <a:xfrm>
            <a:off x="2286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Arial"/>
              </a:rPr>
              <a:t>BY : FIRAS AL ASSADI / AL MANSOUR UNIVERSITY COLLEGE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12000" cy="1025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ill Sans MT"/>
              </a:rPr>
              <a:t>Deflection Instruments Fundamental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599" name="Picture 2" descr=""/>
          <p:cNvPicPr/>
          <p:nvPr/>
        </p:nvPicPr>
        <p:blipFill>
          <a:blip r:embed="rId1"/>
          <a:stretch/>
        </p:blipFill>
        <p:spPr>
          <a:xfrm>
            <a:off x="228600" y="1220760"/>
            <a:ext cx="8686800" cy="510228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4" descr="C:\Users\acer\Pictures\LeftHandOutline.png"/>
          <p:cNvPicPr/>
          <p:nvPr/>
        </p:nvPicPr>
        <p:blipFill>
          <a:blip r:embed="rId2"/>
          <a:stretch/>
        </p:blipFill>
        <p:spPr>
          <a:xfrm>
            <a:off x="304920" y="3154320"/>
            <a:ext cx="1149120" cy="838080"/>
          </a:xfrm>
          <a:prstGeom prst="rect">
            <a:avLst/>
          </a:prstGeom>
          <a:ln w="0">
            <a:noFill/>
          </a:ln>
        </p:spPr>
      </p:pic>
      <p:sp>
        <p:nvSpPr>
          <p:cNvPr id="601" name="عنصر نائب للتاريخ 4"/>
          <p:cNvSpPr/>
          <p:nvPr/>
        </p:nvSpPr>
        <p:spPr>
          <a:xfrm>
            <a:off x="640080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Gill Sans MT"/>
              </a:rPr>
              <a:t>4 OCTOBER 2018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عنصر نائب لرقم الشريحة 5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050A-4164-4933-BA41-B7CC640B2802}" type="slidenum">
              <a:rPr b="1" lang="ar-SA" sz="11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عنصر نائب للتذييل 6"/>
          <p:cNvSpPr/>
          <p:nvPr/>
        </p:nvSpPr>
        <p:spPr>
          <a:xfrm>
            <a:off x="2286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Arial"/>
              </a:rPr>
              <a:t>BY : FIRAS AL ASSADI / AL MANSOUR UNIVERSITY COLLEGE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12000" cy="1025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ill Sans MT"/>
              </a:rPr>
              <a:t>Deflection Instruments Fundamental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2286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Deflecting force </a:t>
            </a:r>
            <a:r>
              <a:rPr b="1" lang="en-US" sz="3200" spc="-1" strike="noStrike">
                <a:solidFill>
                  <a:srgbClr val="ffc000"/>
                </a:solidFill>
                <a:latin typeface="Gill Sans MT"/>
              </a:rPr>
              <a:t>deflects</a:t>
            </a: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 the pointer to a </a:t>
            </a:r>
            <a:r>
              <a:rPr b="1" lang="en-US" sz="3200" spc="-1" strike="noStrike">
                <a:solidFill>
                  <a:srgbClr val="ffc000"/>
                </a:solidFill>
                <a:latin typeface="Gill Sans MT"/>
              </a:rPr>
              <a:t>deflecting angle </a:t>
            </a: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proportional to the input quantity to be measured.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Its </a:t>
            </a:r>
            <a:r>
              <a:rPr b="1" lang="en-US" sz="3200" spc="-1" strike="noStrike">
                <a:solidFill>
                  <a:srgbClr val="ffc000"/>
                </a:solidFill>
                <a:latin typeface="Gill Sans MT"/>
              </a:rPr>
              <a:t>direction</a:t>
            </a: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 is towards the </a:t>
            </a:r>
            <a:r>
              <a:rPr b="1" lang="en-US" sz="3200" spc="-1" strike="noStrike">
                <a:solidFill>
                  <a:srgbClr val="ffc000"/>
                </a:solidFill>
                <a:latin typeface="Gill Sans MT"/>
              </a:rPr>
              <a:t>full scale deflection angle.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Its</a:t>
            </a:r>
            <a:r>
              <a:rPr b="1" lang="en-US" sz="3200" spc="-1" strike="noStrike">
                <a:solidFill>
                  <a:srgbClr val="ffc000"/>
                </a:solidFill>
                <a:latin typeface="Gill Sans MT"/>
              </a:rPr>
              <a:t> magnitude </a:t>
            </a: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is proportional to the input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quantity to be measured.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6" name="عنصر نائب للتاريخ 3"/>
          <p:cNvSpPr/>
          <p:nvPr/>
        </p:nvSpPr>
        <p:spPr>
          <a:xfrm>
            <a:off x="640080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Gill Sans MT"/>
              </a:rPr>
              <a:t>4 OCTOBER 2018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عنصر نائب لرقم الشريحة 4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49C1-D00E-4CEE-8D38-E3E03E1A5319}" type="slidenum">
              <a:rPr b="1" lang="ar-SA" sz="11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عنصر نائب للتذييل 5"/>
          <p:cNvSpPr/>
          <p:nvPr/>
        </p:nvSpPr>
        <p:spPr>
          <a:xfrm>
            <a:off x="2286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Arial"/>
              </a:rPr>
              <a:t>BY : FIRAS AL ASSADI / AL MANSOUR UNIVERSITY COLLEGE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120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ill Sans MT"/>
              </a:rPr>
              <a:t>Deflection Instruments Fundamental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 algn="r" rtl="1">
              <a:spcBef>
                <a:spcPts val="700"/>
              </a:spcBef>
              <a:buClr>
                <a:srgbClr val="4f81bd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11" name="Picture 2" descr=""/>
          <p:cNvPicPr/>
          <p:nvPr/>
        </p:nvPicPr>
        <p:blipFill>
          <a:blip r:embed="rId1"/>
          <a:stretch/>
        </p:blipFill>
        <p:spPr>
          <a:xfrm>
            <a:off x="590400" y="1371600"/>
            <a:ext cx="7963200" cy="4495680"/>
          </a:xfrm>
          <a:prstGeom prst="rect">
            <a:avLst/>
          </a:prstGeom>
          <a:ln w="0">
            <a:noFill/>
          </a:ln>
        </p:spPr>
      </p:pic>
      <p:sp>
        <p:nvSpPr>
          <p:cNvPr id="612" name="عنصر نائب للتاريخ 4"/>
          <p:cNvSpPr/>
          <p:nvPr/>
        </p:nvSpPr>
        <p:spPr>
          <a:xfrm>
            <a:off x="640080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Gill Sans MT"/>
              </a:rPr>
              <a:t>4 OCTOBER 2018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عنصر نائب لرقم الشريحة 5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B0C4-2B5D-44AD-BBCC-8DEAFBF28F5F}" type="slidenum">
              <a:rPr b="1" lang="ar-SA" sz="11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عنصر نائب للتذييل 6"/>
          <p:cNvSpPr/>
          <p:nvPr/>
        </p:nvSpPr>
        <p:spPr>
          <a:xfrm>
            <a:off x="2286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Arial"/>
              </a:rPr>
              <a:t>BY : FIRAS AL ASSADI / AL MANSOUR UNIVERSITY COLLEGE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120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ill Sans MT"/>
              </a:rPr>
              <a:t>Deflection Instruments Fundamental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6" name="Rectangle 1"/>
          <p:cNvSpPr/>
          <p:nvPr/>
        </p:nvSpPr>
        <p:spPr>
          <a:xfrm>
            <a:off x="228600" y="5403960"/>
            <a:ext cx="891540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ling force is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generat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ue to two Spiral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 springs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case of Jewel bearing suspensio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1"/>
          <a:srcRect l="0" t="-2105" r="53281" b="2111"/>
          <a:stretch/>
        </p:blipFill>
        <p:spPr>
          <a:xfrm>
            <a:off x="5396040" y="1143000"/>
            <a:ext cx="3719520" cy="426096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2" descr=""/>
          <p:cNvPicPr/>
          <p:nvPr/>
        </p:nvPicPr>
        <p:blipFill>
          <a:blip r:embed="rId2"/>
          <a:srcRect l="0" t="0" r="0" b="12395"/>
          <a:stretch/>
        </p:blipFill>
        <p:spPr>
          <a:xfrm>
            <a:off x="12600" y="1981080"/>
            <a:ext cx="5092920" cy="2781360"/>
          </a:xfrm>
          <a:prstGeom prst="rect">
            <a:avLst/>
          </a:prstGeom>
          <a:ln w="0">
            <a:noFill/>
          </a:ln>
        </p:spPr>
      </p:pic>
      <p:sp>
        <p:nvSpPr>
          <p:cNvPr id="619" name="عنصر نائب للتاريخ 5"/>
          <p:cNvSpPr/>
          <p:nvPr/>
        </p:nvSpPr>
        <p:spPr>
          <a:xfrm>
            <a:off x="640080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Gill Sans MT"/>
              </a:rPr>
              <a:t>4 OCTOBER 2018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عنصر نائب لرقم الشريحة 6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8473-6E26-4573-998F-9ECC461AA0EE}" type="slidenum">
              <a:rPr b="1" lang="ar-SA" sz="11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عنصر نائب للتذييل 7"/>
          <p:cNvSpPr/>
          <p:nvPr/>
        </p:nvSpPr>
        <p:spPr>
          <a:xfrm>
            <a:off x="2286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Arial"/>
              </a:rPr>
              <a:t>BY : FIRAS AL ASSADI / AL MANSOUR UNIVERSITY COLLEGE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120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ill Sans MT"/>
              </a:rPr>
              <a:t>Deflection Instruments Fundamental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23" name="Picture 2" descr=""/>
          <p:cNvPicPr/>
          <p:nvPr/>
        </p:nvPicPr>
        <p:blipFill>
          <a:blip r:embed="rId1"/>
          <a:srcRect l="0" t="-2105" r="53281" b="2111"/>
          <a:stretch/>
        </p:blipFill>
        <p:spPr>
          <a:xfrm>
            <a:off x="5195880" y="1009800"/>
            <a:ext cx="3719520" cy="4495680"/>
          </a:xfrm>
          <a:prstGeom prst="rect">
            <a:avLst/>
          </a:prstGeom>
          <a:ln w="0">
            <a:noFill/>
          </a:ln>
        </p:spPr>
      </p:pic>
      <p:sp>
        <p:nvSpPr>
          <p:cNvPr id="624" name="Rectangle 2"/>
          <p:cNvSpPr/>
          <p:nvPr/>
        </p:nvSpPr>
        <p:spPr>
          <a:xfrm>
            <a:off x="228600" y="55054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as the taut band control force is generated in case of taut band suspen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5" name="Picture 2" descr=""/>
          <p:cNvPicPr/>
          <p:nvPr/>
        </p:nvPicPr>
        <p:blipFill>
          <a:blip r:embed="rId2"/>
          <a:srcRect l="0" t="0" r="30258" b="0"/>
          <a:stretch/>
        </p:blipFill>
        <p:spPr>
          <a:xfrm>
            <a:off x="228600" y="1779480"/>
            <a:ext cx="4648320" cy="3618000"/>
          </a:xfrm>
          <a:prstGeom prst="rect">
            <a:avLst/>
          </a:prstGeom>
          <a:ln w="0">
            <a:noFill/>
          </a:ln>
        </p:spPr>
      </p:pic>
      <p:sp>
        <p:nvSpPr>
          <p:cNvPr id="626" name="عنصر نائب للتاريخ 5"/>
          <p:cNvSpPr/>
          <p:nvPr/>
        </p:nvSpPr>
        <p:spPr>
          <a:xfrm>
            <a:off x="640080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Gill Sans MT"/>
              </a:rPr>
              <a:t>4 OCTOBER 2018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عنصر نائب لرقم الشريحة 6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1A4E-FA62-47A4-B728-D0629D200A5C}" type="slidenum">
              <a:rPr b="1" lang="ar-SA" sz="11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عنصر نائب للتذييل 7"/>
          <p:cNvSpPr/>
          <p:nvPr/>
        </p:nvSpPr>
        <p:spPr>
          <a:xfrm>
            <a:off x="2286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Arial"/>
              </a:rPr>
              <a:t>BY : FIRAS AL ASSADI / AL MANSOUR UNIVERSITY COLLEGE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NOVO</dc:creator>
  <dc:description/>
  <dc:language>en-US</dc:language>
  <cp:lastModifiedBy>EnGiNeeRx</cp:lastModifiedBy>
  <dcterms:modified xsi:type="dcterms:W3CDTF">2018-10-04T15:45:42Z</dcterms:modified>
  <cp:revision>5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