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A605-C333-4064-8655-418DCB7C7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1C75-3073-4E55-8A91-403B2DA0B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D838-5C8E-4C81-A105-97831DDC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37E0-DB4B-4AE5-BAD1-6824BAC5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0980-224A-45B6-8D84-47444FB8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AB9F-9B51-4830-BD24-CFAA8B44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E1CF-BA34-46FB-8DA8-42388B74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89E0-F212-4B52-98D9-5E60736E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24DE-C35D-4389-BFA9-00F2A377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360A-F4BF-434B-8420-FF457D2C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6E74-4D59-4CC4-8C1D-F99362DD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0785-1E13-442F-A3E0-F5812936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EFFF-988B-43E1-AEAE-CF8E2AC9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FDBB-4CC5-4C3F-B1F4-66C01238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314A-5C74-4760-8FD2-8F16B83D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9ED8-2C19-43ED-93E3-DDE755BE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C3D9-4555-47C3-9850-96917869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913D-95E1-4D01-BBB8-E5127BB9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6C95-89CC-4259-A7A8-3E1013E9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4A0B-07D9-47C3-98AD-7A4BAA0D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27C-BC31-4AAC-9673-91818D47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4438-A5FD-4D12-B93D-0D297FEB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5F03-02F3-4D05-94CE-C0F35622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3BC1-0BCB-4AF0-95B0-2037BAA2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1247-3FCC-4619-983E-13993630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93C-7884-4D86-9EFC-80AC51C5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46EB-0E1C-4597-8538-436DFA1B6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399960" cy="6858000"/>
          </a:xfrm>
          <a:prstGeom prst="rect">
            <a:avLst/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Equal 2"/>
          <p:cNvSpPr/>
          <p:nvPr/>
        </p:nvSpPr>
        <p:spPr>
          <a:xfrm>
            <a:off x="7920" y="1600200"/>
            <a:ext cx="38088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Multiply 14"/>
          <p:cNvSpPr/>
          <p:nvPr/>
        </p:nvSpPr>
        <p:spPr>
          <a:xfrm>
            <a:off x="0" y="3048120"/>
            <a:ext cx="380880" cy="38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Not Equal 15"/>
          <p:cNvSpPr/>
          <p:nvPr/>
        </p:nvSpPr>
        <p:spPr>
          <a:xfrm>
            <a:off x="22320" y="4724280"/>
            <a:ext cx="4190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0"/>
            <a:ext cx="399960" cy="6858000"/>
          </a:xfrm>
          <a:prstGeom prst="rect">
            <a:avLst/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qual 2"/>
          <p:cNvSpPr/>
          <p:nvPr/>
        </p:nvSpPr>
        <p:spPr>
          <a:xfrm>
            <a:off x="7920" y="1600200"/>
            <a:ext cx="38088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Multiply 14"/>
          <p:cNvSpPr/>
          <p:nvPr/>
        </p:nvSpPr>
        <p:spPr>
          <a:xfrm>
            <a:off x="0" y="3048120"/>
            <a:ext cx="380880" cy="38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Not Equal 15"/>
          <p:cNvSpPr/>
          <p:nvPr/>
        </p:nvSpPr>
        <p:spPr>
          <a:xfrm>
            <a:off x="22320" y="4724280"/>
            <a:ext cx="4190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0"/>
            <a:ext cx="399960" cy="6858000"/>
          </a:xfrm>
          <a:prstGeom prst="rect">
            <a:avLst/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Equal 14"/>
          <p:cNvSpPr/>
          <p:nvPr/>
        </p:nvSpPr>
        <p:spPr>
          <a:xfrm>
            <a:off x="7920" y="1600200"/>
            <a:ext cx="38088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Multiply 15"/>
          <p:cNvSpPr/>
          <p:nvPr/>
        </p:nvSpPr>
        <p:spPr>
          <a:xfrm>
            <a:off x="0" y="3048120"/>
            <a:ext cx="380880" cy="38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Not Equal 16"/>
          <p:cNvSpPr/>
          <p:nvPr/>
        </p:nvSpPr>
        <p:spPr>
          <a:xfrm>
            <a:off x="22320" y="4724280"/>
            <a:ext cx="4190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34F2-2B34-49A1-A560-60A793540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صر نائب للتاريخ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صر نائب لرقم الشريحة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9220-01E1-444F-BEF0-1D59C7D5C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Al Mansour University Colle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Computer Technologies Engineering Depar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econd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Year 2018 - 20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truments and Measurements Lectur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Book Antiqua"/>
                <a:ea typeface="Tahoma"/>
              </a:rPr>
              <a:t>Firas Al Assad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1"/>
          <a:srcRect l="57834" t="0" r="0" b="0"/>
          <a:stretch/>
        </p:blipFill>
        <p:spPr>
          <a:xfrm>
            <a:off x="851040" y="1066680"/>
            <a:ext cx="3949560" cy="2686320"/>
          </a:xfrm>
          <a:prstGeom prst="rect">
            <a:avLst/>
          </a:prstGeom>
          <a:ln w="0">
            <a:noFill/>
          </a:ln>
        </p:spPr>
      </p:pic>
      <p:sp>
        <p:nvSpPr>
          <p:cNvPr id="17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ing Amplif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11" descr=""/>
          <p:cNvPicPr/>
          <p:nvPr/>
        </p:nvPicPr>
        <p:blipFill>
          <a:blip r:embed="rId2"/>
          <a:srcRect l="0" t="16693" r="57775" b="0"/>
          <a:stretch/>
        </p:blipFill>
        <p:spPr>
          <a:xfrm>
            <a:off x="5102280" y="1600200"/>
            <a:ext cx="4041720" cy="22860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"/>
          <p:cNvSpPr/>
          <p:nvPr/>
        </p:nvSpPr>
        <p:spPr>
          <a:xfrm>
            <a:off x="5635800" y="2057400"/>
            <a:ext cx="31273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0 =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5254560" y="1144440"/>
            <a:ext cx="3508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ly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706320" y="4343400"/>
            <a:ext cx="8382240" cy="154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8.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 a summing amplifier as shown in figure to produce a specific output signal, such that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v</a:t>
            </a:r>
            <a:r>
              <a:rPr b="1" lang="en-US" sz="1800" spc="-1" strike="noStrike" baseline="-25000">
                <a:solidFill>
                  <a:srgbClr val="0070c0"/>
                </a:solidFill>
                <a:latin typeface="Calibri"/>
              </a:rPr>
              <a:t>o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 = 1.25 – 2.5 cos </a:t>
            </a:r>
            <a:r>
              <a:rPr b="1" i="1" lang="en-US" sz="1800" spc="-1" strike="noStrike">
                <a:solidFill>
                  <a:srgbClr val="0070c0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lt. Assume the input signals are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v</a:t>
            </a:r>
            <a:r>
              <a:rPr b="1" lang="en-US" sz="1800" spc="-1" strike="noStrike" baseline="-25000">
                <a:solidFill>
                  <a:srgbClr val="0070c0"/>
                </a:solidFill>
                <a:latin typeface="Calibri"/>
              </a:rPr>
              <a:t>I1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 = -1.0 V, v</a:t>
            </a:r>
            <a:r>
              <a:rPr b="1" lang="en-US" sz="1800" spc="-1" strike="noStrike" baseline="-25000">
                <a:solidFill>
                  <a:srgbClr val="0070c0"/>
                </a:solidFill>
                <a:latin typeface="Calibri"/>
              </a:rPr>
              <a:t>I2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  = 0.5 cos </a:t>
            </a:r>
            <a:r>
              <a:rPr b="1" i="1" lang="en-US" sz="1800" spc="-1" strike="noStrike">
                <a:solidFill>
                  <a:srgbClr val="0070c0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lt. Assume the feedback resistance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10 k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عنصر نائب للتاريخ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عنصر نائب لرقم الشريحة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BCA3-A887-41CF-ABC9-AB9070262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عنصر نائب للتذييل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7"/>
          <p:cNvGrpSpPr/>
          <p:nvPr/>
        </p:nvGrpSpPr>
        <p:grpSpPr>
          <a:xfrm>
            <a:off x="1905120" y="3471840"/>
            <a:ext cx="4935240" cy="593640"/>
            <a:chOff x="1905120" y="3471840"/>
            <a:chExt cx="4935240" cy="593640"/>
          </a:xfrm>
        </p:grpSpPr>
        <p:pic>
          <p:nvPicPr>
            <p:cNvPr id="179" name="Rectangle 8" descr=""/>
            <p:cNvPicPr/>
            <p:nvPr/>
          </p:nvPicPr>
          <p:blipFill>
            <a:blip r:embed="rId1"/>
            <a:stretch/>
          </p:blipFill>
          <p:spPr>
            <a:xfrm>
              <a:off x="3146400" y="3471840"/>
              <a:ext cx="3693960" cy="5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Rectangle 9" descr=""/>
            <p:cNvPicPr/>
            <p:nvPr/>
          </p:nvPicPr>
          <p:blipFill>
            <a:blip r:embed="rId2"/>
            <a:stretch/>
          </p:blipFill>
          <p:spPr>
            <a:xfrm>
              <a:off x="1905120" y="3471840"/>
              <a:ext cx="112572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Group 11"/>
          <p:cNvGrpSpPr/>
          <p:nvPr/>
        </p:nvGrpSpPr>
        <p:grpSpPr>
          <a:xfrm>
            <a:off x="884160" y="4343400"/>
            <a:ext cx="7621560" cy="646200"/>
            <a:chOff x="884160" y="4343400"/>
            <a:chExt cx="7621560" cy="646200"/>
          </a:xfrm>
        </p:grpSpPr>
        <p:pic>
          <p:nvPicPr>
            <p:cNvPr id="182" name="Rectangle 12" descr=""/>
            <p:cNvPicPr/>
            <p:nvPr/>
          </p:nvPicPr>
          <p:blipFill>
            <a:blip r:embed="rId3"/>
            <a:stretch/>
          </p:blipFill>
          <p:spPr>
            <a:xfrm>
              <a:off x="884160" y="4343400"/>
              <a:ext cx="293400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Rectangle 13" descr=""/>
            <p:cNvPicPr/>
            <p:nvPr/>
          </p:nvPicPr>
          <p:blipFill>
            <a:blip r:embed="rId4"/>
            <a:stretch/>
          </p:blipFill>
          <p:spPr>
            <a:xfrm>
              <a:off x="3964320" y="4343400"/>
              <a:ext cx="4541400" cy="56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Rectangle 14"/>
          <p:cNvSpPr/>
          <p:nvPr/>
        </p:nvSpPr>
        <p:spPr>
          <a:xfrm>
            <a:off x="921600" y="49536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output volta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5"/>
          <a:stretch/>
        </p:blipFill>
        <p:spPr>
          <a:xfrm>
            <a:off x="860400" y="1066680"/>
            <a:ext cx="5791320" cy="646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6"/>
          <a:stretch/>
        </p:blipFill>
        <p:spPr>
          <a:xfrm>
            <a:off x="992160" y="1828800"/>
            <a:ext cx="5102280" cy="639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7"/>
          <a:stretch/>
        </p:blipFill>
        <p:spPr>
          <a:xfrm>
            <a:off x="1411200" y="2590920"/>
            <a:ext cx="5523120" cy="66024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7"/>
          <p:cNvGrpSpPr/>
          <p:nvPr/>
        </p:nvGrpSpPr>
        <p:grpSpPr>
          <a:xfrm>
            <a:off x="2438280" y="2592360"/>
            <a:ext cx="2210040" cy="646200"/>
            <a:chOff x="2438280" y="2592360"/>
            <a:chExt cx="2210040" cy="646200"/>
          </a:xfrm>
        </p:grpSpPr>
        <p:sp>
          <p:nvSpPr>
            <p:cNvPr id="189" name="Rectangle 1"/>
            <p:cNvSpPr/>
            <p:nvPr/>
          </p:nvSpPr>
          <p:spPr>
            <a:xfrm>
              <a:off x="4345200" y="2592360"/>
              <a:ext cx="303120" cy="6462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Rectangle 2"/>
            <p:cNvSpPr/>
            <p:nvPr/>
          </p:nvSpPr>
          <p:spPr>
            <a:xfrm>
              <a:off x="2438280" y="2666880"/>
              <a:ext cx="530280" cy="4572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Group 11"/>
          <p:cNvGrpSpPr/>
          <p:nvPr/>
        </p:nvGrpSpPr>
        <p:grpSpPr>
          <a:xfrm>
            <a:off x="3151080" y="2592360"/>
            <a:ext cx="2241720" cy="644400"/>
            <a:chOff x="3151080" y="2592360"/>
            <a:chExt cx="2241720" cy="644400"/>
          </a:xfrm>
        </p:grpSpPr>
        <p:sp>
          <p:nvSpPr>
            <p:cNvPr id="192" name="Rectangle 20"/>
            <p:cNvSpPr/>
            <p:nvPr/>
          </p:nvSpPr>
          <p:spPr>
            <a:xfrm>
              <a:off x="3151080" y="2666880"/>
              <a:ext cx="35388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21"/>
            <p:cNvSpPr/>
            <p:nvPr/>
          </p:nvSpPr>
          <p:spPr>
            <a:xfrm>
              <a:off x="4876920" y="2592360"/>
              <a:ext cx="515880" cy="6444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عنصر نائب للتاريخ 1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عنصر نائب لرقم الشريحة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9403-9C95-4E75-8156-3A6ED218A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عنصر نائب للتذييل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Op-Amp 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99" name="عنصر نائب للتاريخ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عنصر نائب لرقم الشريحة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60DA-2FE3-42D3-91E8-9D9F7A871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"/>
          <p:cNvSpPr/>
          <p:nvPr/>
        </p:nvSpPr>
        <p:spPr>
          <a:xfrm>
            <a:off x="731880" y="754200"/>
            <a:ext cx="795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en the feedback resistor of an inverter circuit is replaced by a capacitor the circuit is worked as an integrator circuit -cause the output to respond to changes in the input voltage over tim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790560" y="1784520"/>
            <a:ext cx="4086360" cy="5038560"/>
          </a:xfrm>
          <a:prstGeom prst="rect">
            <a:avLst/>
          </a:prstGeom>
          <a:ln w="0">
            <a:noFill/>
          </a:ln>
        </p:spPr>
      </p:pic>
      <p:sp>
        <p:nvSpPr>
          <p:cNvPr id="204" name="Title 1"/>
          <p:cNvSpPr/>
          <p:nvPr/>
        </p:nvSpPr>
        <p:spPr>
          <a:xfrm>
            <a:off x="587520" y="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grat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Group 1"/>
          <p:cNvGrpSpPr/>
          <p:nvPr/>
        </p:nvGrpSpPr>
        <p:grpSpPr>
          <a:xfrm>
            <a:off x="5038560" y="2057400"/>
            <a:ext cx="3953160" cy="2385360"/>
            <a:chOff x="5038560" y="2057400"/>
            <a:chExt cx="3953160" cy="2385360"/>
          </a:xfrm>
        </p:grpSpPr>
        <p:sp>
          <p:nvSpPr>
            <p:cNvPr id="206" name="Rectangle 19"/>
            <p:cNvSpPr/>
            <p:nvPr/>
          </p:nvSpPr>
          <p:spPr>
            <a:xfrm>
              <a:off x="6564960" y="4105440"/>
              <a:ext cx="16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ntegrator circui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7" name="Picture 8" descr=""/>
            <p:cNvPicPr/>
            <p:nvPr/>
          </p:nvPicPr>
          <p:blipFill>
            <a:blip r:embed="rId2"/>
            <a:stretch/>
          </p:blipFill>
          <p:spPr>
            <a:xfrm>
              <a:off x="5038560" y="2057400"/>
              <a:ext cx="3953160" cy="204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8" name="عنصر نائب للتاريخ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عنصر نائب لرقم الشريحة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138B-ADBB-45D9-8AF1-5B2BD0FD0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عنصر نائب للتذييل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1285920"/>
            <a:ext cx="6400800" cy="33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DEAL OPERATIONAL AMPLIFIER AND OP-AMP CIRCU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عنصر نائب للتاريخ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عنصر نائب لرقم الشريحة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8375-0559-4BDF-AE4D-88AF7DA1F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4"/>
          <p:cNvGrpSpPr/>
          <p:nvPr/>
        </p:nvGrpSpPr>
        <p:grpSpPr>
          <a:xfrm>
            <a:off x="1447920" y="412920"/>
            <a:ext cx="5910120" cy="1104840"/>
            <a:chOff x="1447920" y="412920"/>
            <a:chExt cx="5910120" cy="1104840"/>
          </a:xfrm>
        </p:grpSpPr>
        <p:pic>
          <p:nvPicPr>
            <p:cNvPr id="112" name="Picture 2" descr=""/>
            <p:cNvPicPr/>
            <p:nvPr/>
          </p:nvPicPr>
          <p:blipFill>
            <a:blip r:embed="rId1"/>
            <a:srcRect l="0" t="27477" r="55306" b="26043"/>
            <a:stretch/>
          </p:blipFill>
          <p:spPr>
            <a:xfrm>
              <a:off x="3252600" y="412920"/>
              <a:ext cx="3877200" cy="11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3"/>
            <p:cNvSpPr/>
            <p:nvPr/>
          </p:nvSpPr>
          <p:spPr>
            <a:xfrm>
              <a:off x="2194920" y="55044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vertin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5"/>
            <p:cNvSpPr/>
            <p:nvPr/>
          </p:nvSpPr>
          <p:spPr>
            <a:xfrm>
              <a:off x="1447920" y="1024200"/>
              <a:ext cx="205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on-invertin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6"/>
            <p:cNvSpPr/>
            <p:nvPr/>
          </p:nvSpPr>
          <p:spPr>
            <a:xfrm>
              <a:off x="6176160" y="82584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6" name="Picture 7" descr=""/>
          <p:cNvPicPr/>
          <p:nvPr/>
        </p:nvPicPr>
        <p:blipFill>
          <a:blip r:embed="rId2"/>
          <a:srcRect l="37904" t="0" r="0" b="0"/>
          <a:stretch/>
        </p:blipFill>
        <p:spPr>
          <a:xfrm>
            <a:off x="712800" y="2666880"/>
            <a:ext cx="4022640" cy="2059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495320" y="2766600"/>
            <a:ext cx="44960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pen loop m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o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referred to as the open loop ga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ice that i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open loop gain equals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3406680" y="1517760"/>
            <a:ext cx="240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p-amp circuit symb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عنصر نائب للتاريخ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عنصر نائب لرقم الشريحة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EF84-8E70-472A-9702-27F8CE379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عنصر نائب للتذييل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47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main characteristic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3144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ant the open loop gain to be equal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means th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3144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3144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3144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3144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3144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3144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3144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3144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3144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nput resistance to be equal to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, hence there is no current going into the op-a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rcRect l="37904" t="0" r="0" b="0"/>
          <a:stretch/>
        </p:blipFill>
        <p:spPr>
          <a:xfrm>
            <a:off x="2895480" y="1752480"/>
            <a:ext cx="4383360" cy="224316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10"/>
          <p:cNvGrpSpPr/>
          <p:nvPr/>
        </p:nvGrpSpPr>
        <p:grpSpPr>
          <a:xfrm>
            <a:off x="3476160" y="2437920"/>
            <a:ext cx="486360" cy="1155240"/>
            <a:chOff x="3476160" y="2437920"/>
            <a:chExt cx="486360" cy="1155240"/>
          </a:xfrm>
        </p:grpSpPr>
        <p:cxnSp>
          <p:nvCxnSpPr>
            <p:cNvPr id="125" name="Straight Arrow Connector 6"/>
            <p:cNvCxnSpPr/>
            <p:nvPr/>
          </p:nvCxnSpPr>
          <p:spPr>
            <a:xfrm>
              <a:off x="3504600" y="2437920"/>
              <a:ext cx="45828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26" name="Straight Arrow Connector 7"/>
            <p:cNvCxnSpPr/>
            <p:nvPr/>
          </p:nvCxnSpPr>
          <p:spPr>
            <a:xfrm>
              <a:off x="3476160" y="3200040"/>
              <a:ext cx="45828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27" name="TextBox 8"/>
            <p:cNvSpPr/>
            <p:nvPr/>
          </p:nvSpPr>
          <p:spPr>
            <a:xfrm>
              <a:off x="3476520" y="2502720"/>
              <a:ext cx="3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9"/>
            <p:cNvSpPr/>
            <p:nvPr/>
          </p:nvSpPr>
          <p:spPr>
            <a:xfrm>
              <a:off x="3476520" y="3224880"/>
              <a:ext cx="3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عنصر نائب للتاريخ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عنصر نائب لرقم الشريحة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00C6-8294-4D53-A65B-EDAADE2D2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عنصر نائب للتذييل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 amp can be configured to be used for different type of circuit applic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verting Amplif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n – inverting Amplif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mming Amplif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g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fferenti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عنصر نائب للتاريخ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عنصر نائب لرقم الشريحة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E0E2-0C6C-450F-ADB2-7945FE488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2681280" y="2720880"/>
            <a:ext cx="32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-amp as an inverting amplif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15" descr=""/>
          <p:cNvPicPr/>
          <p:nvPr/>
        </p:nvPicPr>
        <p:blipFill>
          <a:blip r:embed="rId1"/>
          <a:stretch/>
        </p:blipFill>
        <p:spPr>
          <a:xfrm>
            <a:off x="4635360" y="4695840"/>
            <a:ext cx="3943440" cy="19335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verting Amplif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5"/>
          <p:cNvGrpSpPr/>
          <p:nvPr/>
        </p:nvGrpSpPr>
        <p:grpSpPr>
          <a:xfrm>
            <a:off x="838080" y="3095640"/>
            <a:ext cx="6782040" cy="2824920"/>
            <a:chOff x="838080" y="3095640"/>
            <a:chExt cx="6782040" cy="2824920"/>
          </a:xfrm>
        </p:grpSpPr>
        <p:sp>
          <p:nvSpPr>
            <p:cNvPr id="141" name="TextBox 1"/>
            <p:cNvSpPr/>
            <p:nvPr/>
          </p:nvSpPr>
          <p:spPr>
            <a:xfrm>
              <a:off x="838080" y="3095640"/>
              <a:ext cx="6782040" cy="28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mbria Math"/>
                </a:rPr>
                <a:t>Voltage at node 1 (inverting)  =  voltage at node 2 (non-inverting ) </a:t>
              </a:r>
              <a:r>
                <a:rPr b="0" lang="en-US" sz="1800" spc="-1" strike="noStrike">
                  <a:solidFill>
                    <a:srgbClr val="000000"/>
                  </a:solidFill>
                  <a:latin typeface="Cambria Math"/>
                </a:rPr>
                <a:t>KCL at node 1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mbria Math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mbria Math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Cambria Math"/>
                </a:rPr>
                <a:t> – 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mbria Math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Cambria Math"/>
                </a:rPr>
                <a:t> – 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mbria Math"/>
                </a:rPr>
                <a:t>in</a:t>
              </a:r>
              <a:r>
                <a:rPr b="0" lang="en-US" sz="1800" spc="-1" strike="noStrike">
                  <a:solidFill>
                    <a:srgbClr val="000000"/>
                  </a:solidFill>
                  <a:latin typeface="Cambria Math"/>
                </a:rPr>
                <a:t> = 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mbria Math"/>
                </a:rPr>
                <a:t>(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mbria Math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Cambria Math"/>
                </a:rPr>
                <a:t> – 0) / 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mbria Math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Cambria Math"/>
                </a:rPr>
                <a:t> = (0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mbria Math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mbria Math"/>
                </a:rPr>
                <a:t>– 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mbria Math"/>
                </a:rPr>
                <a:t>o</a:t>
              </a:r>
              <a:r>
                <a:rPr b="0" lang="en-US" sz="1800" spc="-1" strike="noStrike">
                  <a:solidFill>
                    <a:srgbClr val="000000"/>
                  </a:solidFill>
                  <a:latin typeface="Cambria Math"/>
                </a:rPr>
                <a:t>) / 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mbria Math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mbria Math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mbria Math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Cambria Math"/>
                </a:rPr>
                <a:t> / 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mbria Math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Cambria Math"/>
                </a:rPr>
                <a:t> = - 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mbria Math"/>
                </a:rPr>
                <a:t>o</a:t>
              </a:r>
              <a:r>
                <a:rPr b="0" lang="en-US" sz="1800" spc="-1" strike="noStrike">
                  <a:solidFill>
                    <a:srgbClr val="000000"/>
                  </a:solidFill>
                  <a:latin typeface="Cambria Math"/>
                </a:rPr>
                <a:t> / 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mbria Math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mbria Math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mbria Math"/>
                </a:rPr>
                <a:t>o</a:t>
              </a:r>
              <a:r>
                <a:rPr b="0" lang="en-US" sz="1800" spc="-1" strike="noStrike">
                  <a:solidFill>
                    <a:srgbClr val="000000"/>
                  </a:solidFill>
                  <a:latin typeface="Cambria Math"/>
                </a:rPr>
                <a:t>  =  - 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mbria Math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mbria Math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mbria Math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Cambria Math"/>
                </a:rPr>
                <a:t>          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mbria Math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Straight Connector 3"/>
            <p:cNvSpPr/>
            <p:nvPr/>
          </p:nvSpPr>
          <p:spPr>
            <a:xfrm>
              <a:off x="1547640" y="5000760"/>
              <a:ext cx="39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Straight Connector 8"/>
            <p:cNvSpPr/>
            <p:nvPr/>
          </p:nvSpPr>
          <p:spPr>
            <a:xfrm>
              <a:off x="838080" y="5000760"/>
              <a:ext cx="39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Right Arrow 4"/>
          <p:cNvSpPr/>
          <p:nvPr/>
        </p:nvSpPr>
        <p:spPr>
          <a:xfrm>
            <a:off x="3352680" y="4802040"/>
            <a:ext cx="1122480" cy="4302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3960720" y="849240"/>
            <a:ext cx="4334040" cy="1847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"/>
          <p:cNvPicPr/>
          <p:nvPr/>
        </p:nvPicPr>
        <p:blipFill>
          <a:blip r:embed="rId3"/>
          <a:stretch/>
        </p:blipFill>
        <p:spPr>
          <a:xfrm>
            <a:off x="492120" y="1076400"/>
            <a:ext cx="3983040" cy="744480"/>
          </a:xfrm>
          <a:prstGeom prst="rect">
            <a:avLst/>
          </a:prstGeom>
          <a:ln w="0">
            <a:noFill/>
          </a:ln>
        </p:spPr>
      </p:pic>
      <p:sp>
        <p:nvSpPr>
          <p:cNvPr id="147" name="عنصر نائب للتاريخ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عنصر نائب لرقم الشريحة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B350-9965-4077-9557-0117AA8E9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عنصر نائب للتذييل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191120" cy="29210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"/>
          <p:cNvSpPr/>
          <p:nvPr/>
        </p:nvSpPr>
        <p:spPr>
          <a:xfrm>
            <a:off x="2743200" y="4719600"/>
            <a:ext cx="388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in =  -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/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= -(150/12) =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2.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عنصر نائب للتاريخ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عنصر نائب لرقم الشريحة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F91B-AD17-4421-BC4A-7D078FB78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عنصر نائب للتذييل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219320" y="3516480"/>
            <a:ext cx="3975120" cy="19191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"/>
          <p:cNvSpPr/>
          <p:nvPr/>
        </p:nvSpPr>
        <p:spPr>
          <a:xfrm>
            <a:off x="5638680" y="3657600"/>
            <a:ext cx="1447920" cy="11912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nswer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 Math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-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 Math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- 0.27 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 Math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TextBox 5" descr=""/>
          <p:cNvPicPr/>
          <p:nvPr/>
        </p:nvPicPr>
        <p:blipFill>
          <a:blip r:embed="rId2"/>
          <a:stretch/>
        </p:blipFill>
        <p:spPr>
          <a:xfrm>
            <a:off x="298440" y="1292400"/>
            <a:ext cx="8534520" cy="1560240"/>
          </a:xfrm>
          <a:prstGeom prst="rect">
            <a:avLst/>
          </a:prstGeom>
          <a:ln w="0">
            <a:noFill/>
          </a:ln>
        </p:spPr>
      </p:pic>
      <p:sp>
        <p:nvSpPr>
          <p:cNvPr id="160" name="عنصر نائب للتاريخ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عنصر نائب لرقم الشريحة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B52D-2815-4E1C-9C79-524A7B327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عنصر نائب للتذييل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133720" y="1946160"/>
            <a:ext cx="4140000" cy="2079720"/>
          </a:xfrm>
          <a:prstGeom prst="rect">
            <a:avLst/>
          </a:prstGeom>
          <a:ln w="0">
            <a:noFill/>
          </a:ln>
        </p:spPr>
      </p:pic>
      <p:sp>
        <p:nvSpPr>
          <p:cNvPr id="164" name="Title 1"/>
          <p:cNvSpPr/>
          <p:nvPr/>
        </p:nvSpPr>
        <p:spPr>
          <a:xfrm>
            <a:off x="457200" y="2746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oltage Follower / Buffer Amplif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2529000" y="4552920"/>
            <a:ext cx="25527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mbria Math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mbria Math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</a:rPr>
              <a:t>Hence, gain =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عنصر نائب للتاريخ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عنصر نائب لرقم الشريحة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67B7-CFE2-423E-9FBF-65176DE9E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عنصر نائب للتذييل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05:36:19Z</dcterms:created>
  <dc:creator>test</dc:creator>
  <dc:description/>
  <dc:language>en-US</dc:language>
  <cp:lastModifiedBy>EnGiNeeRx</cp:lastModifiedBy>
  <dcterms:modified xsi:type="dcterms:W3CDTF">2018-10-04T16:04:45Z</dcterms:modified>
  <cp:revision>82</cp:revision>
  <dc:subject/>
  <dc:title>PowerPoint Presentation</dc:title>
</cp:coreProperties>
</file>