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BF8-CB50-4F60-B802-E336ACC3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C1A-AC04-45E2-8441-156AD855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1AF-5193-4F4C-AD27-61BB4FCA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2FA-AAF9-4C47-8593-E3EC7318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A22-064D-46AF-BC5E-DC790136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87A-156E-4FCD-898D-BE04B5B2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057-42D6-425C-9D36-D8DC3AD5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3A2-077B-481C-A5DA-4DE57AB3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0F7-3173-4964-8C93-052F5962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7D9-2971-48AA-A729-881B8994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486-E6F1-41BE-8CD1-E2092154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216-E17E-4533-BCA0-1F777956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ctober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A36C-DC5E-4C3C-8F91-FD33BE51C298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chteacher.com/generalized-measurement-syste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ctober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4AD5-A15F-48FF-8EEE-0A62C6176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l Mansour University Colle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omputer Technologies Engineering De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econd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Year 2018 - 20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ruments and Measurements Lectures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ook Antiqua"/>
                <a:ea typeface="Tahoma"/>
              </a:rPr>
              <a:t>Firas Al Assad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5. Data Transmission System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ta Transmission System is simply used for transmitting data from one element to another. It acts as a communication link between different elements of the measurement system. Some of the data transmission elements used are cables, wireless antennae, transducers, telemetry systems et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6. Data Presentation Elemen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is used to present the measured physical quantity in a human readable form to the observer. It receives processed signal from data processing element and presents the data in a human readable form. LED displays are most commonly used as data presentation elements in many measurement syst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ctober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74A6-06C1-4B80-94A1-993F6C757BF6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Generalized Measurement System</a:t>
            </a:r>
            <a:br>
              <a:rPr sz="40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ctober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5922-3897-44D6-8598-A78D6C561D9A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everal measurement systems are in use today. Before measuring a physical quantity, it is necessary to understand the working of the measurement system us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Generalized measurement system is a system that is comprised of the typical elements of a measurement system. It helps to understand how a measurement system work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ctober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2927-068B-4AF4-915C-6749E6CE48CD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Block diagram of generalized measurement system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ctober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9F04-266A-41EB-884F-E6B6731BB31A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14240" y="35712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ctober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2331-4388-44A9-9078-85463BCE29D8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Components of Generalized Measurement System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Calibri"/>
              </a:rPr>
              <a:t>A generalized measurement system consists of the following components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Sensing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 Conversion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 Manipulation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Processing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Transmission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Presentation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ctober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358D-3419-45F2-91B1-9A8516A80EEA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Primary Sensing Element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e primary sensing element receives signal of the physical quantity to be measured as input. It converts the signal to a suitable form (electrical, mechanical or other form), so that it becomes easier for other elements of the measurement system, to either convert or manipulate it</a:t>
            </a:r>
            <a:br>
              <a:rPr sz="37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ctober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6D44-1B52-4EFF-A6F8-320D6086CDEC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. Variable Conversion El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Variable conversion element converts the output of the primary sensing element to a more suitable form. It is used only if necessary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300" spc="-1" strike="noStrike">
                <a:solidFill>
                  <a:srgbClr val="0070c0"/>
                </a:solidFill>
                <a:latin typeface="Calibri"/>
              </a:rPr>
              <a:t>Variable Manipulation Element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Variable manipulation element manipulates and amplifies the output of the variable conversion element. It also removes noise (if present) in the signal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ctober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19FF-6786-448A-82E0-0ED51CC51708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3300" spc="-1" strike="noStrike">
                <a:solidFill>
                  <a:srgbClr val="0070c0"/>
                </a:solidFill>
                <a:latin typeface="Calibri"/>
              </a:rPr>
              <a:t>Data Processing Element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Data processing element is an important element used in many measurement systems. It processes the data signal received from the variable manipulation element and produces suitable output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Data processing element may also be used to compare the measured value with a standard value to produce required output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لتاريخ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ctober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A567-06CC-4BD2-8404-03C1549F215D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4T11:08:46Z</dcterms:created>
  <dc:creator>EnGiNeeRx</dc:creator>
  <dc:description/>
  <dc:language>en-US</dc:language>
  <cp:lastModifiedBy>EnGiNeeRx</cp:lastModifiedBy>
  <dcterms:modified xsi:type="dcterms:W3CDTF">2018-10-04T15:26:10Z</dcterms:modified>
  <cp:revision>4</cp:revision>
  <dc:subject/>
  <dc:title>Generalized Measurement System</dc:title>
</cp:coreProperties>
</file>